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9C9-5AE4-497C-93CE-57CA7CE4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235-64DD-48F7-9A86-CEDBC27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8C661-3296-455D-9ECE-45D9CA5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99C96-7989-4A4E-B0D6-68C872A5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0CF83-6FFE-4EE1-A2F5-BF1F21C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20CD9-9307-49B3-A2D9-627E66A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B201D-CCD8-430A-8332-A8A7B82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738CD-5FF2-46C5-A367-DD3CFEC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07FD6-39E3-4464-87E3-BF3F208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D81E0-92FE-4DF1-9E7D-B7358C59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25B17-0F73-4233-A0EA-61A946A7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CB021-37E1-4340-879C-F59B7C5C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F9E-4B77-4FA4-97E3-59448808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2AE17-3E40-44A3-8462-E7646D4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55AB0-DBD0-4806-B775-76632D8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2316E-2BB4-4876-9866-ABA69C5E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A3533-87B9-40FF-891E-823C0DA9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7A1B9-D1AE-428E-9374-2F920AA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F8C01-CDEC-424B-ADF0-73EE6E4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57DFD-40A7-4DA1-9289-07598FE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D686A-FB31-46A3-8444-A254FC4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A89F8-3A57-4803-A3EB-247FE4A1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0B856-59C1-4BBD-A092-8C3DA9A1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A17-83C8-4F7B-90FB-996F39C2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3114A-EDED-4B30-9A4C-92AB868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4F21D-7FB8-4D13-8598-B4E9FE18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222ED-22B8-4546-B668-264B10D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0838-1D6F-4D00-AAF7-AD833F4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7EED-6608-49FF-A634-C4E4260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06F07-CEA8-4056-95C6-7A45DA16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0AF21-1433-4EC7-8646-DD8DE93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C9996-1F72-4010-8050-3CA93BE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2BCB0-C2D4-417B-B3AD-2295D24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55804-6B0A-4ACF-9B5C-C387FB8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7FF-9441-4AFD-B4F3-CCE4C10D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16B7B-5349-4883-8018-C2F1C51C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1E05A-0D64-4C58-9F67-8A6E86D9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9A93E-32F4-4CEE-B371-56B6D9E2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93779-AD6C-4202-ACD4-CEA9EA91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D769E-E973-4731-A481-02E9E05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99C25-B66C-488F-837C-DB653F5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A8764-1F64-4C95-AE59-E0676306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783A4-A6A2-4086-9770-F3B389E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F79FC-7984-4989-A0A4-82F6278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E9336-D9C3-467A-9212-FB558E9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B260-472B-445A-A039-6A5891A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81536-ECE2-4204-8CC3-05D7A34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703A8-F3FC-4EB9-B371-B602705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C3AA5-29FC-4472-AF59-1035E77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E5178-4972-493F-8E36-DCED0BB1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5250A-8659-4139-A866-F3310E63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399A5-2BDA-4EFB-B8C2-50711EE0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BA68C-4BA5-4EC7-A6BE-35140F50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1A8D9-9AA6-43DB-B677-48AD02BE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9036-205A-499A-A95D-E1E56330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5C2D3-643A-40F9-8D3F-D3544594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814-FC69-426A-AD14-E1B3FC8A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736BE-8F25-4B0D-A7E5-002012B7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738C0-1CE3-4B32-ACD8-6571459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F87C8-7FBB-47E1-B5DE-017856A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7FCF6-4912-42B7-90B5-1BC3205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350E4-D7A3-4DEA-8343-3ACE9EEE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2C28-C38C-44A9-B2D2-7EC12439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0A881-09DD-4BF4-AC82-626BCA7B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A1E70-123F-400B-BF61-371EAC82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E2395-BD88-49A3-94CE-FA4277C2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1FB2C-0E09-4D74-9BFA-DD0D69A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015-1114-4487-9606-52FC1740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CB873-7236-4679-89C2-2B0E92ED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CAFD2-E07A-4B55-8F30-A5F177E8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9FEEB-AC4A-43D2-9868-2BFA82E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74218-9335-43A8-9D3A-238BD13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EFB16-BBE7-498F-B90F-8626D07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E6C84-3CA7-4ED4-9243-5EB633B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DAD62-48C0-4ABC-AE54-385E94B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6D6F8-D6E8-4C80-8D64-59015110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2CF46-223A-4814-9279-62588948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B58-12CD-44C6-9463-C66D184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2C2-AA17-4C3C-A0B7-46A38F4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1BD-CCD5-4554-9D9A-4E0650E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018-8B97-48D8-80C9-F767AFD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D26E-9380-4258-9BF0-FC75346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5CC2-6202-4461-AD70-FFCD32A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C1D-7343-49A2-A9F4-E3133CC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B8E-B1A9-4F05-9AF0-29B6169F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E76-137F-4C3A-979C-6C7A2CD8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34F2-D02F-4E4A-884E-1570C422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2856-E177-4DFD-8F27-CF513B1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1772-5D61-4CA3-9FB8-ECFFEC3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26C9-6290-458E-9121-919F32F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DAEE-5776-43B2-99E7-F5C3E58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BD2-E040-4AF6-B962-A34B0F4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AEC0-14E3-4CA7-BBC5-554140A6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4A57-7168-4D99-84D8-44ED40C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7D1B-D65C-4EF1-A8F0-D469E92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263E-2EA3-4AFE-B8B0-8967581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72D4-24BA-4133-8026-3F2AA0A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0685-4113-43CB-926B-F9A5F153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C0EC-6A76-4B7F-BC79-D961BC77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76B1-88E4-4FA3-B9C1-55B3E12A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4845-688C-4CC3-B197-18CF956E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0E26-65C1-4417-AE5F-77F022B8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60-D4D6-40C9-9E85-38F882C4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36D4-598C-4CC4-A522-4B21D2B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A69E-99DD-496B-916C-E3B23037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662F-EB39-4224-A964-66B2B59C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C937-90D4-4B91-ACEC-B233F07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439F-25A8-4534-A580-A3181E9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D32D-49DD-4406-BD70-7329341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60E9-319C-4C7A-B63C-CD7C0A5D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9D16-5DA1-4BF9-9808-B168C9BA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4B5D-0E41-4A37-8775-38C975F1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0FB42-0827-41CB-9068-F5959D00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F89-2F34-4588-B600-2D05A966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FA4E-0059-40B7-926B-5E0E7FEA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7AA3-D06E-4322-8FEC-2EA4D7B0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2D72-D64A-4FD1-9C47-519CC95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3955-5FEE-435A-93E1-B856CC1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4A81-3724-4F04-81AA-1599E4E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693B-A40E-4C8B-AB5B-410E641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339E-743C-433C-AD9B-3F47D1A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8E6B-F8F3-4AC4-ACD8-7A3D32B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E5C3-F392-46B0-9D0F-5B2FEEAB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4936-BE3C-465F-822F-D8A8BCFB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85A-A53D-4B5F-A6D4-035A511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3168-3496-4D13-B6EF-9A3541C3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B021-C196-488B-91BF-36D012E0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A5A2-BA91-4B43-8E10-B813D8EB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A3FE-FFAC-4CD2-A57D-70AE067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01D5-8946-46CB-9A7F-FB21C9F7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BDBC-3731-4EE1-8EC9-F0046A9C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3455-13B6-40F3-9F1B-6BDB2E0A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23BF1-7038-435B-A04A-97DA7C4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4F80-B71F-4195-AC20-45AAD77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B617-B30C-41B0-AE52-92FEF23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710-0114-4458-A641-58B60DE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E981-9F19-4FAA-94B3-65FDEF1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8E07-C972-4E3B-9ADD-63A4950C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D4899-4C65-4B84-B1C6-FC91EB7E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6252-3CD1-46DE-967D-C96B7A7A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1FFA-2877-4DC3-B2FB-1182F892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A635-5849-46DE-A3E2-206B016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327D-6AE9-4CF8-86DB-A4D53490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A66E-7854-4839-BF96-01892DB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916D-255C-4614-B493-0B86AB8C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171A-C335-4079-8063-CB77958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F1D-F0D1-43FC-8266-9628015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F9FD1-A9A5-46DE-B818-CD3860F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4A44-FF25-424D-AC20-47FB050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253B8-3761-4379-899D-AD04DA83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EC03-5068-46EB-8949-82482673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E6CF-055B-4CBF-A482-BB9D8052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7BCF-7CE0-4533-98AE-AC71AC52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5739-0574-4861-913B-0DEAD57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3BA70-4558-4D19-9A7E-ACA1350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F65E-8F06-42E4-B700-0AF1822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33F5D-8036-491B-AAD7-DD7CC41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4CD-3563-443B-86B3-0221C9E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D008-CF73-4D29-9EAA-8278482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E290-0245-40B8-B94C-71D016F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DFDD0-3E1B-4343-A1D0-C55BBC8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8007-1E17-4ACD-85CE-032DDA2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0C7B-BB4A-4EC5-A79E-8AB9324F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EFA4A-0542-45E4-8AC7-AD71096D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B0E0-006F-43F4-95FF-0ECAC4A5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5CD5D-9D82-49A5-895A-8520CDB7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CDB4-77AE-410B-9EF5-CA5EBA4D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0FF1B-93B6-4BE7-BE75-852E6920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2B14-37B2-4982-8418-1489582CF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5C90-E0BA-4CAF-9182-859C7D311C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04A-FD3D-47B7-B57A-CD578AC3A8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CCB-A5DA-4A81-8357-57C2D97DA3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bk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bk object 17"/>
          <p:cNvSpPr/>
          <p:nvPr/>
        </p:nvSpPr>
        <p:spPr>
          <a:xfrm>
            <a:off x="0" y="0"/>
            <a:ext cx="9144000" cy="1249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F1DC-149C-47E8-AF23-69823D880D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DA44-9198-46E2-B5C0-73685EB1D6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009920" y="6668640"/>
            <a:ext cx="213372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1A17-15EC-4CE8-9B49-A684EEE3DB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D7D-F7BF-4A1D-983C-B39ECE4208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E5D1-FC3C-4803-872C-B4A1E5FC22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A5B3-A6AD-43C6-8893-CA1332A676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DA44-56DD-4A57-B8BC-57AECFC5CB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DD05-1508-44E2-BEF1-BE8B751C57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35B5-E0D9-4267-8A36-15256939A1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418-FDE5-4370-9D37-586D8C503B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824-1DC3-4233-9F69-E3456B383F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Рисунок 2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Оценка качества управления муниципальными финансами поселений Старорусского муниципального района за 20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3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Диаграмма 23"/>
          <p:cNvGraphicFramePr/>
          <p:nvPr/>
        </p:nvGraphicFramePr>
        <p:xfrm>
          <a:off x="722160" y="1268280"/>
          <a:ext cx="7699680" cy="512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9" name="Диаграмма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2160" y="1268280"/>
                    <a:ext cx="76996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Левая фигурная скобка 24"/>
          <p:cNvSpPr/>
          <p:nvPr/>
        </p:nvSpPr>
        <p:spPr>
          <a:xfrm rot="16200000">
            <a:off x="1062720" y="5353920"/>
            <a:ext cx="442800" cy="914400"/>
          </a:xfrm>
          <a:custGeom>
            <a:avLst/>
            <a:gdLst>
              <a:gd name="textAreaLeft" fmla="*/ 282960 w 442800"/>
              <a:gd name="textAreaRight" fmla="*/ 443160 w 442800"/>
              <a:gd name="textAreaTop" fmla="*/ 11520 h 914400"/>
              <a:gd name="textAreaBottom" fmla="*/ 90288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6"/>
                  <a:pt x="10800" y="872"/>
                </a:cubicBezTo>
                <a:lnTo>
                  <a:pt x="10800" y="9928"/>
                </a:lnTo>
                <a:cubicBezTo>
                  <a:pt x="10800" y="10364"/>
                  <a:pt x="5400" y="10800"/>
                  <a:pt x="0" y="10800"/>
                </a:cubicBezTo>
                <a:cubicBezTo>
                  <a:pt x="5400" y="10800"/>
                  <a:pt x="10800" y="11236"/>
                  <a:pt x="10800" y="11672"/>
                </a:cubicBezTo>
                <a:lnTo>
                  <a:pt x="10800" y="20728"/>
                </a:lnTo>
                <a:cubicBezTo>
                  <a:pt x="10800" y="211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Левая фигурная скобка 28"/>
          <p:cNvSpPr/>
          <p:nvPr/>
        </p:nvSpPr>
        <p:spPr>
          <a:xfrm rot="16200000">
            <a:off x="4361760" y="3351960"/>
            <a:ext cx="442800" cy="4918320"/>
          </a:xfrm>
          <a:custGeom>
            <a:avLst/>
            <a:gdLst>
              <a:gd name="textAreaLeft" fmla="*/ 282960 w 442800"/>
              <a:gd name="textAreaRight" fmla="*/ 443160 w 442800"/>
              <a:gd name="textAreaTop" fmla="*/ 11520 h 4918320"/>
              <a:gd name="textAreaBottom" fmla="*/ 4906800 h 491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5"/>
          <p:cNvSpPr/>
          <p:nvPr/>
        </p:nvSpPr>
        <p:spPr>
          <a:xfrm>
            <a:off x="1324080" y="20574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9,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0"/>
          <p:cNvSpPr/>
          <p:nvPr/>
        </p:nvSpPr>
        <p:spPr>
          <a:xfrm>
            <a:off x="2079720" y="2189160"/>
            <a:ext cx="69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8,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1"/>
          <p:cNvSpPr/>
          <p:nvPr/>
        </p:nvSpPr>
        <p:spPr>
          <a:xfrm>
            <a:off x="2963880" y="230184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8,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32"/>
          <p:cNvSpPr/>
          <p:nvPr/>
        </p:nvSpPr>
        <p:spPr>
          <a:xfrm>
            <a:off x="3853080" y="26640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5,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4843440" y="34304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1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5725440" y="34606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1,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5"/>
          <p:cNvSpPr/>
          <p:nvPr/>
        </p:nvSpPr>
        <p:spPr>
          <a:xfrm>
            <a:off x="6620040" y="3678120"/>
            <a:ext cx="5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9,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6"/>
          <p:cNvSpPr/>
          <p:nvPr/>
        </p:nvSpPr>
        <p:spPr>
          <a:xfrm>
            <a:off x="7461360" y="3941640"/>
            <a:ext cx="56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7,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734400" y="6240600"/>
            <a:ext cx="11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8"/>
          <p:cNvSpPr/>
          <p:nvPr/>
        </p:nvSpPr>
        <p:spPr>
          <a:xfrm>
            <a:off x="4368960" y="6229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Левая фигурная скобка 6"/>
          <p:cNvSpPr/>
          <p:nvPr/>
        </p:nvSpPr>
        <p:spPr>
          <a:xfrm rot="16200000">
            <a:off x="1069200" y="5353920"/>
            <a:ext cx="442800" cy="914400"/>
          </a:xfrm>
          <a:custGeom>
            <a:avLst/>
            <a:gdLst>
              <a:gd name="textAreaLeft" fmla="*/ 282960 w 442800"/>
              <a:gd name="textAreaRight" fmla="*/ 443160 w 442800"/>
              <a:gd name="textAreaTop" fmla="*/ 11520 h 914400"/>
              <a:gd name="textAreaBottom" fmla="*/ 90288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6"/>
                  <a:pt x="10800" y="872"/>
                </a:cubicBezTo>
                <a:lnTo>
                  <a:pt x="10800" y="9928"/>
                </a:lnTo>
                <a:cubicBezTo>
                  <a:pt x="10800" y="10364"/>
                  <a:pt x="5400" y="10800"/>
                  <a:pt x="0" y="10800"/>
                </a:cubicBezTo>
                <a:cubicBezTo>
                  <a:pt x="5400" y="10800"/>
                  <a:pt x="10800" y="11236"/>
                  <a:pt x="10800" y="11672"/>
                </a:cubicBezTo>
                <a:lnTo>
                  <a:pt x="10800" y="20728"/>
                </a:lnTo>
                <a:cubicBezTo>
                  <a:pt x="10800" y="211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Левая фигурная скобка 7"/>
          <p:cNvSpPr/>
          <p:nvPr/>
        </p:nvSpPr>
        <p:spPr>
          <a:xfrm rot="16200000">
            <a:off x="1062720" y="5353920"/>
            <a:ext cx="442800" cy="914400"/>
          </a:xfrm>
          <a:custGeom>
            <a:avLst/>
            <a:gdLst>
              <a:gd name="textAreaLeft" fmla="*/ 282960 w 442800"/>
              <a:gd name="textAreaRight" fmla="*/ 443160 w 442800"/>
              <a:gd name="textAreaTop" fmla="*/ 11520 h 914400"/>
              <a:gd name="textAreaBottom" fmla="*/ 90288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6"/>
                  <a:pt x="10800" y="872"/>
                </a:cubicBezTo>
                <a:lnTo>
                  <a:pt x="10800" y="9928"/>
                </a:lnTo>
                <a:cubicBezTo>
                  <a:pt x="10800" y="10364"/>
                  <a:pt x="5400" y="10800"/>
                  <a:pt x="0" y="10800"/>
                </a:cubicBezTo>
                <a:cubicBezTo>
                  <a:pt x="5400" y="10800"/>
                  <a:pt x="10800" y="11236"/>
                  <a:pt x="10800" y="11672"/>
                </a:cubicBezTo>
                <a:lnTo>
                  <a:pt x="10800" y="20728"/>
                </a:lnTo>
                <a:cubicBezTo>
                  <a:pt x="10800" y="211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2:47:20Z</dcterms:created>
  <dc:creator>user</dc:creator>
  <dc:description/>
  <dc:language>en-US</dc:language>
  <cp:lastModifiedBy>Администрация Старорусского Муниципального района</cp:lastModifiedBy>
  <cp:lastPrinted>2020-04-23T08:25:46Z</cp:lastPrinted>
  <dcterms:modified xsi:type="dcterms:W3CDTF">2024-04-17T14:37:55Z</dcterms:modified>
  <cp:revision>64</cp:revision>
  <dc:subject/>
  <dc:title>ИСПОЛНЕНИЕ БЮДЖЕТА СТАРОРУССКОГО МУНИЦИПАЛЬНОГО РАЙОНА ЗА 2017 ГОД</dc:title>
</cp:coreProperties>
</file>