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png" ContentType="image/png"/>
  <Override PartName="/ppt/media/image37.png" ContentType="image/png"/>
  <Override PartName="/ppt/media/image6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30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18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49.jpeg" ContentType="image/jpe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9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53.png" ContentType="image/png"/>
  <Override PartName="/ppt/media/image54.png" ContentType="image/png"/>
  <Override PartName="/ppt/media/image5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7588" cy="6858000"/>
  <p:notesSz cx="6796088" cy="9925050"/>
</p:presentation>
</file>

<file path=ppt/commentAuthors.xml><?xml version="1.0" encoding="utf-8"?>
<p:cmAuthorLst xmlns:p="http://schemas.openxmlformats.org/presentationml/2006/main">
  <p:cmAuthor id="1" name="Иванова Татьяна Витальевна" initials="ИТВ" lastIdx="1" clrIdx="1"/>
  <p:cmAuthor id="0" name="Васильева Людмила Ильинична" initials="ВЛИ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24-11-20T09:02:31.127000000" idx="1">
    <p:pos x="5998" y="997"/>
    <p:text/>
  </p:cm>
</p:cmLst>
</file>

<file path=ppt/comments/comment7.xml><?xml version="1.0" encoding="utf-8"?>
<p:cmLst xmlns:p="http://schemas.openxmlformats.org/presentationml/2006/main">
  <p:cm authorId="1" dt="2023-11-14T16:06:53.910000000" idx="1">
    <p:pos x="6198" y="467"/>
    <p:text/>
  </p:cm>
  <p:cm authorId="0" dt="2024-11-20T09:32:40.539000000" idx="2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039-160C-4BE2-9DBD-D79E43E5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037-0E3B-4D36-B483-E10CDB9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0BC-2941-476D-A506-E030A028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A5D-3EE4-4326-97F5-D588033D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7B43-01C0-4AB8-805C-3F2E8B07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CE319-AE18-4AE6-9284-A1DF9D9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5037C-7D59-4381-A13A-23FC1FF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72C43-6BD5-42FA-B28C-DE13180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4AB3E-DCC2-44E0-95B5-56F2099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41ADB-E011-4E79-B07C-574C075E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C338D-018E-47ED-A908-17EA15BA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1F1-94E9-4383-8CC0-E11811DB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00D35-CBC5-4BDC-AA55-04652A3B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696EB-DA0C-4978-8036-445A9F6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86F27-C1DF-4324-872A-F2F91BB2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492FA-A02B-4E8F-ACC1-783B870B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7EFE8-2280-47F2-B0AB-783062E9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A929-8D65-488F-A103-81C1A0B8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BCC8-E0E2-4AC9-BEC9-CA9838E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5757-87C7-4C14-8119-D463B2E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E351-2F09-43A3-883D-99151E2E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85C8-C239-46C9-95E8-0FE22DB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A83-8F91-4C2E-9878-6319E5CD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1AF9-0AF4-4483-A138-E1AC3119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D897-1E0D-4508-BB26-31211B8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BF8E-F154-4E6F-B650-8F4316EF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B1C0C-F919-4BCB-976B-90EA120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F2FA-BD43-46C8-ADB2-95DEF38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345C-E973-493A-8965-892AA6A8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0D56-685E-4EE2-87FE-8736B776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F03-9DA1-413A-84CB-1B93CF46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9EE-62A7-4C7F-ADA9-8691AB5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FC3-8646-4CAA-AC0F-E50FC1B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A6D-3942-418E-B05C-30C40A7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FDB-A99A-43E6-8357-C875A31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E44-FB4F-4D76-B39A-E7633D98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230-611A-46D1-9A7F-3EDEFA7D36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DA6E-9DB8-4D50-8A90-810C27A38B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667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2800" indent="-2134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2640" indent="-213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2480" indent="-213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2480" indent="-213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2480" indent="-213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9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667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2800" indent="-2134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2640" indent="-213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2480" indent="-2134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2480" indent="-213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2480" indent="-213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4DD-03C8-42F8-BECB-22C05AD263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15.png"/><Relationship Id="rId8" Type="http://schemas.openxmlformats.org/officeDocument/2006/relationships/image" Target="../media/image17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1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jpeg"/><Relationship Id="rId1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16.png"/><Relationship Id="rId8" Type="http://schemas.openxmlformats.org/officeDocument/2006/relationships/image" Target="../media/image52.png"/><Relationship Id="rId9" Type="http://schemas.openxmlformats.org/officeDocument/2006/relationships/image" Target="../media/image30.png"/><Relationship Id="rId10" Type="http://schemas.openxmlformats.org/officeDocument/2006/relationships/image" Target="../media/image53.png"/><Relationship Id="rId11" Type="http://schemas.openxmlformats.org/officeDocument/2006/relationships/image" Target="../media/image15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5.png"/><Relationship Id="rId17" Type="http://schemas.openxmlformats.org/officeDocument/2006/relationships/image" Target="../media/image2.png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image" Target="../media/image60.png"/><Relationship Id="rId21" Type="http://schemas.openxmlformats.org/officeDocument/2006/relationships/image" Target="../media/image61.png"/><Relationship Id="rId2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1009800" y="461880"/>
            <a:ext cx="85262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ookman Old Style"/>
              </a:rPr>
              <a:t>Проект бюджета дл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Bookman Old Style"/>
              </a:rPr>
              <a:t>граждан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города Старая Русс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0fd"/>
                </a:solidFill>
                <a:latin typeface="Bookman Old Style"/>
              </a:rPr>
              <a:t>на 20</a:t>
            </a:r>
            <a:r>
              <a:rPr b="1" lang="en-US" sz="3200" spc="-1" strike="noStrike">
                <a:solidFill>
                  <a:srgbClr val="e7f0fd"/>
                </a:solidFill>
                <a:latin typeface="Bookman Old Style"/>
              </a:rPr>
              <a:t>2</a:t>
            </a:r>
            <a:r>
              <a:rPr b="1" lang="ru-RU" sz="3200" spc="-1" strike="noStrike">
                <a:solidFill>
                  <a:srgbClr val="e7f0fd"/>
                </a:solidFill>
                <a:latin typeface="Bookman Old Style"/>
              </a:rPr>
              <a:t>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0fd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e7f0fd"/>
                </a:solidFill>
                <a:latin typeface="Bookman Old Style"/>
              </a:rPr>
              <a:t>и на плановый пери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f0fd"/>
                </a:solidFill>
                <a:latin typeface="Bookman Old Style"/>
              </a:rPr>
              <a:t>2026 и 2027 г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41440" cy="1542960"/>
          </a:xfrm>
          <a:prstGeom prst="rect">
            <a:avLst/>
          </a:prstGeom>
          <a:ln w="0">
            <a:solidFill>
              <a:srgbClr val="80808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2038320" y="0"/>
            <a:ext cx="64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бщегосударственные вопросы(тыс. рубл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bject 24"/>
          <p:cNvSpPr/>
          <p:nvPr/>
        </p:nvSpPr>
        <p:spPr>
          <a:xfrm>
            <a:off x="233280" y="3422520"/>
            <a:ext cx="2195640" cy="99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офинансирование расходных обязательств на содержание контрольно-счетной палат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Овал 5"/>
          <p:cNvSpPr/>
          <p:nvPr/>
        </p:nvSpPr>
        <p:spPr>
          <a:xfrm>
            <a:off x="676440" y="4446720"/>
            <a:ext cx="1309680" cy="608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96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год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bject 24"/>
          <p:cNvSpPr/>
          <p:nvPr/>
        </p:nvSpPr>
        <p:spPr>
          <a:xfrm>
            <a:off x="119160" y="644400"/>
            <a:ext cx="6578640" cy="71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П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строительство и территориальное планирование муниципального образования город Старая Рус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Овал 12"/>
          <p:cNvSpPr/>
          <p:nvPr/>
        </p:nvSpPr>
        <p:spPr>
          <a:xfrm>
            <a:off x="6634080" y="620640"/>
            <a:ext cx="1249560" cy="673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ежегод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Овал 28"/>
          <p:cNvSpPr/>
          <p:nvPr/>
        </p:nvSpPr>
        <p:spPr>
          <a:xfrm>
            <a:off x="6669000" y="1625760"/>
            <a:ext cx="1365480" cy="520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ежегод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bject 29"/>
          <p:cNvSpPr/>
          <p:nvPr/>
        </p:nvSpPr>
        <p:spPr>
          <a:xfrm>
            <a:off x="1131840" y="5180040"/>
            <a:ext cx="4424400" cy="1317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      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Arial"/>
              </a:rPr>
              <a:t>ВСЕГО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2025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–   6 884,1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5,1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2026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–   19498,3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14,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2027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–   24128,6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9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bject 24"/>
          <p:cNvSpPr/>
          <p:nvPr/>
        </p:nvSpPr>
        <p:spPr>
          <a:xfrm>
            <a:off x="4400640" y="3432240"/>
            <a:ext cx="1155600" cy="914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езерв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фон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Овал 9"/>
          <p:cNvSpPr/>
          <p:nvPr/>
        </p:nvSpPr>
        <p:spPr>
          <a:xfrm>
            <a:off x="4446720" y="4416480"/>
            <a:ext cx="1163520" cy="519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00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Овал 39"/>
          <p:cNvSpPr/>
          <p:nvPr/>
        </p:nvSpPr>
        <p:spPr>
          <a:xfrm>
            <a:off x="7942320" y="4468680"/>
            <a:ext cx="1703160" cy="723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26 – 14614,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27 – 19244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8607600" y="9216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bject 24"/>
          <p:cNvSpPr/>
          <p:nvPr/>
        </p:nvSpPr>
        <p:spPr>
          <a:xfrm>
            <a:off x="7826400" y="3422520"/>
            <a:ext cx="1952640" cy="993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ловно-утвержденные расх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bject 18"/>
          <p:cNvSpPr/>
          <p:nvPr/>
        </p:nvSpPr>
        <p:spPr>
          <a:xfrm>
            <a:off x="112680" y="1434960"/>
            <a:ext cx="6578640" cy="9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П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системы управления и распоряжения земельно-имущественным комплексом города Старая Русс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bject 21"/>
          <p:cNvSpPr/>
          <p:nvPr/>
        </p:nvSpPr>
        <p:spPr>
          <a:xfrm>
            <a:off x="2322360" y="2421000"/>
            <a:ext cx="6518520" cy="799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программные рас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bject 24"/>
          <p:cNvSpPr/>
          <p:nvPr/>
        </p:nvSpPr>
        <p:spPr>
          <a:xfrm>
            <a:off x="5626080" y="3433680"/>
            <a:ext cx="2130480" cy="919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е поощрение членов добровольных друж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Прямая со стрелкой 11"/>
          <p:cNvCxnSpPr/>
          <p:nvPr/>
        </p:nvCxnSpPr>
        <p:spPr>
          <a:xfrm flipH="1">
            <a:off x="1444320" y="2820960"/>
            <a:ext cx="98496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Прямая со стрелкой 19"/>
          <p:cNvCxnSpPr>
            <a:endCxn id="227" idx="0"/>
          </p:cNvCxnSpPr>
          <p:nvPr/>
        </p:nvCxnSpPr>
        <p:spPr>
          <a:xfrm>
            <a:off x="8415360" y="3141720"/>
            <a:ext cx="38808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Прямая со стрелкой 21"/>
          <p:cNvCxnSpPr>
            <a:endCxn id="223" idx="0"/>
          </p:cNvCxnSpPr>
          <p:nvPr/>
        </p:nvCxnSpPr>
        <p:spPr>
          <a:xfrm>
            <a:off x="4782600" y="3195360"/>
            <a:ext cx="19620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Прямая со стрелкой 25"/>
          <p:cNvCxnSpPr>
            <a:endCxn id="230" idx="0"/>
          </p:cNvCxnSpPr>
          <p:nvPr/>
        </p:nvCxnSpPr>
        <p:spPr>
          <a:xfrm>
            <a:off x="6545160" y="3170160"/>
            <a:ext cx="1468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object 24"/>
          <p:cNvSpPr/>
          <p:nvPr/>
        </p:nvSpPr>
        <p:spPr>
          <a:xfrm>
            <a:off x="2651040" y="3451320"/>
            <a:ext cx="1679760" cy="871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нос в совет муниципальных образова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Овал 7"/>
          <p:cNvSpPr/>
          <p:nvPr/>
        </p:nvSpPr>
        <p:spPr>
          <a:xfrm>
            <a:off x="6053040" y="4416480"/>
            <a:ext cx="1163880" cy="519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346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год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Овал 8"/>
          <p:cNvSpPr/>
          <p:nvPr/>
        </p:nvSpPr>
        <p:spPr>
          <a:xfrm>
            <a:off x="2878200" y="4402080"/>
            <a:ext cx="122400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85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год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7640640" y="3168720"/>
            <a:ext cx="1197000" cy="8967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682560" y="109440"/>
            <a:ext cx="92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Национальная безопаснос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правоохранительная деятельность тыс. рубл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bject 24"/>
          <p:cNvSpPr/>
          <p:nvPr/>
        </p:nvSpPr>
        <p:spPr>
          <a:xfrm>
            <a:off x="204840" y="866880"/>
            <a:ext cx="4049640" cy="272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П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«Защита населения и территории от чрезвычайных ситуаций природного и техногенного характера, обеспечение пожарной безопасности и безопасности людей на водных объект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bject 29"/>
          <p:cNvSpPr/>
          <p:nvPr/>
        </p:nvSpPr>
        <p:spPr>
          <a:xfrm>
            <a:off x="3927600" y="668160"/>
            <a:ext cx="1593720" cy="83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35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ежегод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11" descr=""/>
          <p:cNvPicPr/>
          <p:nvPr/>
        </p:nvPicPr>
        <p:blipFill>
          <a:blip r:embed="rId3"/>
          <a:stretch/>
        </p:blipFill>
        <p:spPr>
          <a:xfrm rot="20066400">
            <a:off x="7380360" y="1044360"/>
            <a:ext cx="1690560" cy="1090440"/>
          </a:xfrm>
          <a:prstGeom prst="rect">
            <a:avLst/>
          </a:prstGeom>
          <a:ln w="0">
            <a:noFill/>
          </a:ln>
        </p:spPr>
      </p:pic>
      <p:sp>
        <p:nvSpPr>
          <p:cNvPr id="243" name="Пятиугольник 7"/>
          <p:cNvSpPr/>
          <p:nvPr/>
        </p:nvSpPr>
        <p:spPr>
          <a:xfrm>
            <a:off x="4254480" y="1465200"/>
            <a:ext cx="2647800" cy="50328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47" y="0"/>
                </a:lnTo>
                <a:lnTo>
                  <a:pt x="21600" y="10800"/>
                </a:lnTo>
                <a:lnTo>
                  <a:pt x="195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формационные материа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Рисунок 17" descr=""/>
          <p:cNvPicPr/>
          <p:nvPr/>
        </p:nvPicPr>
        <p:blipFill>
          <a:blip r:embed="rId4"/>
          <a:stretch/>
        </p:blipFill>
        <p:spPr>
          <a:xfrm rot="643800">
            <a:off x="8089560" y="2107800"/>
            <a:ext cx="1611360" cy="1074600"/>
          </a:xfrm>
          <a:prstGeom prst="rect">
            <a:avLst/>
          </a:prstGeom>
          <a:ln w="0">
            <a:noFill/>
          </a:ln>
        </p:spPr>
      </p:pic>
      <p:sp>
        <p:nvSpPr>
          <p:cNvPr id="245" name="Пятиугольник 14"/>
          <p:cNvSpPr/>
          <p:nvPr/>
        </p:nvSpPr>
        <p:spPr>
          <a:xfrm>
            <a:off x="4254480" y="2008080"/>
            <a:ext cx="2762280" cy="97308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95" y="0"/>
                </a:lnTo>
                <a:lnTo>
                  <a:pt x="21600" y="10800"/>
                </a:lnTo>
                <a:lnTo>
                  <a:pt x="177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следование и благоустройство мест массового отдыха и куп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bject 24"/>
          <p:cNvSpPr/>
          <p:nvPr/>
        </p:nvSpPr>
        <p:spPr>
          <a:xfrm>
            <a:off x="204840" y="4468680"/>
            <a:ext cx="4049640" cy="11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ероприятия по ГО и Ч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bject 29"/>
          <p:cNvSpPr/>
          <p:nvPr/>
        </p:nvSpPr>
        <p:spPr>
          <a:xfrm>
            <a:off x="3927600" y="4662360"/>
            <a:ext cx="1593720" cy="83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0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bject 29"/>
          <p:cNvSpPr/>
          <p:nvPr/>
        </p:nvSpPr>
        <p:spPr>
          <a:xfrm>
            <a:off x="6689880" y="4930920"/>
            <a:ext cx="1303200" cy="446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2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35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bject 29"/>
          <p:cNvSpPr/>
          <p:nvPr/>
        </p:nvSpPr>
        <p:spPr>
          <a:xfrm>
            <a:off x="6689880" y="5500800"/>
            <a:ext cx="1303200" cy="668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3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5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0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8243280" y="49816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1,7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30"/>
          <p:cNvSpPr/>
          <p:nvPr/>
        </p:nvSpPr>
        <p:spPr>
          <a:xfrm>
            <a:off x="8242920" y="561024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0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ятиугольник 21"/>
          <p:cNvSpPr/>
          <p:nvPr/>
        </p:nvSpPr>
        <p:spPr>
          <a:xfrm>
            <a:off x="4254480" y="3041640"/>
            <a:ext cx="2647800" cy="50184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4" y="0"/>
                </a:lnTo>
                <a:lnTo>
                  <a:pt x="21600" y="10800"/>
                </a:lnTo>
                <a:lnTo>
                  <a:pt x="195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силение пожарной безопас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6"/>
          <a:stretch/>
        </p:blipFill>
        <p:spPr>
          <a:xfrm>
            <a:off x="0" y="0"/>
            <a:ext cx="685800" cy="73332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254" name="TextBox 1"/>
          <p:cNvSpPr/>
          <p:nvPr/>
        </p:nvSpPr>
        <p:spPr>
          <a:xfrm>
            <a:off x="8562240" y="4395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1"/>
          <p:cNvSpPr/>
          <p:nvPr/>
        </p:nvSpPr>
        <p:spPr>
          <a:xfrm>
            <a:off x="6774840" y="4468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ВСЕГО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3446640" y="109440"/>
            <a:ext cx="51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циональная экономика (тыс. рубле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bject 29"/>
          <p:cNvSpPr/>
          <p:nvPr/>
        </p:nvSpPr>
        <p:spPr>
          <a:xfrm>
            <a:off x="144360" y="6272280"/>
            <a:ext cx="1301760" cy="446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655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1447920" y="6313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34,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bject 18"/>
          <p:cNvSpPr/>
          <p:nvPr/>
        </p:nvSpPr>
        <p:spPr>
          <a:xfrm>
            <a:off x="1382760" y="866880"/>
            <a:ext cx="4965480" cy="88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П «Совершенствование и содержание автомобильных дорог  местного значен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Овал 3"/>
          <p:cNvGrpSpPr/>
          <p:nvPr/>
        </p:nvGrpSpPr>
        <p:grpSpPr>
          <a:xfrm>
            <a:off x="6242040" y="907920"/>
            <a:ext cx="1281240" cy="897120"/>
            <a:chOff x="6242040" y="907920"/>
            <a:chExt cx="1281240" cy="897120"/>
          </a:xfrm>
        </p:grpSpPr>
        <p:pic>
          <p:nvPicPr>
            <p:cNvPr id="261" name="Овал 3" descr=""/>
            <p:cNvPicPr/>
            <p:nvPr/>
          </p:nvPicPr>
          <p:blipFill>
            <a:blip r:embed="rId2"/>
            <a:stretch/>
          </p:blipFill>
          <p:spPr>
            <a:xfrm>
              <a:off x="6242040" y="907920"/>
              <a:ext cx="12812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475320" y="1054080"/>
              <a:ext cx="817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33862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20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Овал 28"/>
          <p:cNvGrpSpPr/>
          <p:nvPr/>
        </p:nvGrpSpPr>
        <p:grpSpPr>
          <a:xfrm>
            <a:off x="7443720" y="865080"/>
            <a:ext cx="1279440" cy="970200"/>
            <a:chOff x="7443720" y="865080"/>
            <a:chExt cx="1279440" cy="970200"/>
          </a:xfrm>
        </p:grpSpPr>
        <p:pic>
          <p:nvPicPr>
            <p:cNvPr id="264" name="Овал 28" descr=""/>
            <p:cNvPicPr/>
            <p:nvPr/>
          </p:nvPicPr>
          <p:blipFill>
            <a:blip r:embed="rId3"/>
            <a:stretch/>
          </p:blipFill>
          <p:spPr>
            <a:xfrm>
              <a:off x="7443720" y="865080"/>
              <a:ext cx="127944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674120" y="1020600"/>
              <a:ext cx="81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23444,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20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5" descr=""/>
          <p:cNvPicPr/>
          <p:nvPr/>
        </p:nvPicPr>
        <p:blipFill>
          <a:blip r:embed="rId4"/>
          <a:stretch/>
        </p:blipFill>
        <p:spPr>
          <a:xfrm>
            <a:off x="-7920" y="12600"/>
            <a:ext cx="641160" cy="68580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grpSp>
        <p:nvGrpSpPr>
          <p:cNvPr id="267" name="Овал 18"/>
          <p:cNvGrpSpPr/>
          <p:nvPr/>
        </p:nvGrpSpPr>
        <p:grpSpPr>
          <a:xfrm>
            <a:off x="8643960" y="907920"/>
            <a:ext cx="1274760" cy="970200"/>
            <a:chOff x="8643960" y="907920"/>
            <a:chExt cx="1274760" cy="970200"/>
          </a:xfrm>
        </p:grpSpPr>
        <p:pic>
          <p:nvPicPr>
            <p:cNvPr id="268" name="Овал 18" descr=""/>
            <p:cNvPicPr/>
            <p:nvPr/>
          </p:nvPicPr>
          <p:blipFill>
            <a:blip r:embed="rId5"/>
            <a:stretch/>
          </p:blipFill>
          <p:spPr>
            <a:xfrm>
              <a:off x="8643960" y="907920"/>
              <a:ext cx="12747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874000" y="1065240"/>
              <a:ext cx="81612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14933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20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object 29"/>
          <p:cNvSpPr/>
          <p:nvPr/>
        </p:nvSpPr>
        <p:spPr>
          <a:xfrm>
            <a:off x="2243160" y="6311880"/>
            <a:ext cx="1301760" cy="446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6134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0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bject 29"/>
          <p:cNvSpPr/>
          <p:nvPr/>
        </p:nvSpPr>
        <p:spPr>
          <a:xfrm>
            <a:off x="4702320" y="6311880"/>
            <a:ext cx="1301760" cy="446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7623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3674880" y="63658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27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6189480" y="63118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21,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8510040" y="1252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Овал 19"/>
          <p:cNvGrpSpPr/>
          <p:nvPr/>
        </p:nvGrpSpPr>
        <p:grpSpPr>
          <a:xfrm>
            <a:off x="7010280" y="1816200"/>
            <a:ext cx="1517760" cy="903240"/>
            <a:chOff x="7010280" y="1816200"/>
            <a:chExt cx="1517760" cy="903240"/>
          </a:xfrm>
        </p:grpSpPr>
        <p:pic>
          <p:nvPicPr>
            <p:cNvPr id="276" name="Овал 19" descr=""/>
            <p:cNvPicPr/>
            <p:nvPr/>
          </p:nvPicPr>
          <p:blipFill>
            <a:blip r:embed="rId6"/>
            <a:stretch/>
          </p:blipFill>
          <p:spPr>
            <a:xfrm>
              <a:off x="7010280" y="1816200"/>
              <a:ext cx="15177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273800" y="1962000"/>
              <a:ext cx="9874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e5"/>
                  </a:solidFill>
                  <a:latin typeface="Times New Roman"/>
                </a:rPr>
                <a:t>1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bject 24"/>
          <p:cNvSpPr/>
          <p:nvPr/>
        </p:nvSpPr>
        <p:spPr>
          <a:xfrm>
            <a:off x="490680" y="1882800"/>
            <a:ext cx="6578280" cy="7110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МП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алого и среднего предпринимательства в муниципальном образовании город Старая Рус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bject 21"/>
          <p:cNvSpPr/>
          <p:nvPr/>
        </p:nvSpPr>
        <p:spPr>
          <a:xfrm>
            <a:off x="49320" y="2813040"/>
            <a:ext cx="6518160" cy="7984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 «Развитие туризма и туристской деятельности в муниципальном образовании город Старая Русс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Овал 4"/>
          <p:cNvGrpSpPr/>
          <p:nvPr/>
        </p:nvGrpSpPr>
        <p:grpSpPr>
          <a:xfrm>
            <a:off x="6504120" y="2766960"/>
            <a:ext cx="1523880" cy="897120"/>
            <a:chOff x="6504120" y="2766960"/>
            <a:chExt cx="1523880" cy="897120"/>
          </a:xfrm>
        </p:grpSpPr>
        <p:pic>
          <p:nvPicPr>
            <p:cNvPr id="281" name="Овал 4" descr=""/>
            <p:cNvPicPr/>
            <p:nvPr/>
          </p:nvPicPr>
          <p:blipFill>
            <a:blip r:embed="rId9"/>
            <a:stretch/>
          </p:blipFill>
          <p:spPr>
            <a:xfrm>
              <a:off x="6504120" y="2766960"/>
              <a:ext cx="1523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772320" y="2911320"/>
              <a:ext cx="9889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e5"/>
                  </a:solidFill>
                  <a:latin typeface="Times New Roman"/>
                </a:rPr>
                <a:t>20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object 21"/>
          <p:cNvSpPr/>
          <p:nvPr/>
        </p:nvSpPr>
        <p:spPr>
          <a:xfrm>
            <a:off x="2057400" y="3681360"/>
            <a:ext cx="6518160" cy="800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программные рас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: скругленные углы 6"/>
          <p:cNvSpPr/>
          <p:nvPr/>
        </p:nvSpPr>
        <p:spPr>
          <a:xfrm>
            <a:off x="144360" y="4606920"/>
            <a:ext cx="4808520" cy="1258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лата выполненных работ, связанных с осуществлением регулярных перевозок автомобильным транспортом по регулируемым тарифа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: скругленные углы 7"/>
          <p:cNvSpPr/>
          <p:nvPr/>
        </p:nvSpPr>
        <p:spPr>
          <a:xfrm>
            <a:off x="6883560" y="4564080"/>
            <a:ext cx="2027160" cy="12589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Соборной площа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Стрелка: изогнутая 8"/>
          <p:cNvSpPr/>
          <p:nvPr/>
        </p:nvSpPr>
        <p:spPr>
          <a:xfrm rot="5400000">
            <a:off x="8370360" y="4122720"/>
            <a:ext cx="612720" cy="206280"/>
          </a:xfrm>
          <a:custGeom>
            <a:avLst/>
            <a:gdLst/>
            <a:ahLst/>
            <a:rect l="l" t="t" r="r" b="b"/>
            <a:pathLst>
              <a:path w="612775" h="206375">
                <a:moveTo>
                  <a:pt x="0" y="206375"/>
                </a:moveTo>
                <a:lnTo>
                  <a:pt x="0" y="116086"/>
                </a:lnTo>
                <a:cubicBezTo>
                  <a:pt x="0" y="66221"/>
                  <a:pt x="40424" y="25797"/>
                  <a:pt x="90289" y="25797"/>
                </a:cubicBezTo>
                <a:lnTo>
                  <a:pt x="561181" y="25797"/>
                </a:lnTo>
                <a:lnTo>
                  <a:pt x="561181" y="0"/>
                </a:lnTo>
                <a:lnTo>
                  <a:pt x="612775" y="51594"/>
                </a:lnTo>
                <a:lnTo>
                  <a:pt x="561181" y="103188"/>
                </a:lnTo>
                <a:lnTo>
                  <a:pt x="561181" y="77391"/>
                </a:lnTo>
                <a:lnTo>
                  <a:pt x="90289" y="77391"/>
                </a:lnTo>
                <a:cubicBezTo>
                  <a:pt x="68918" y="77391"/>
                  <a:pt x="51594" y="94715"/>
                  <a:pt x="51594" y="116086"/>
                </a:cubicBezTo>
                <a:lnTo>
                  <a:pt x="51594" y="206375"/>
                </a:lnTo>
                <a:lnTo>
                  <a:pt x="0" y="206375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Стрелка: изогнутая вверх 9"/>
          <p:cNvSpPr/>
          <p:nvPr/>
        </p:nvSpPr>
        <p:spPr>
          <a:xfrm rot="10800000">
            <a:off x="1744200" y="4044960"/>
            <a:ext cx="312840" cy="536400"/>
          </a:xfrm>
          <a:custGeom>
            <a:avLst/>
            <a:gdLst/>
            <a:ahLst/>
            <a:rect l="l" t="t" r="r" b="b"/>
            <a:pathLst>
              <a:path w="312737" h="536575">
                <a:moveTo>
                  <a:pt x="0" y="458391"/>
                </a:moveTo>
                <a:lnTo>
                  <a:pt x="195461" y="458391"/>
                </a:lnTo>
                <a:lnTo>
                  <a:pt x="195461" y="78184"/>
                </a:lnTo>
                <a:lnTo>
                  <a:pt x="156369" y="78184"/>
                </a:lnTo>
                <a:lnTo>
                  <a:pt x="234553" y="0"/>
                </a:lnTo>
                <a:lnTo>
                  <a:pt x="312737" y="78184"/>
                </a:lnTo>
                <a:lnTo>
                  <a:pt x="273645" y="78184"/>
                </a:lnTo>
                <a:lnTo>
                  <a:pt x="273645" y="536575"/>
                </a:lnTo>
                <a:lnTo>
                  <a:pt x="0" y="536575"/>
                </a:lnTo>
                <a:lnTo>
                  <a:pt x="0" y="458391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Овал 10"/>
          <p:cNvGrpSpPr/>
          <p:nvPr/>
        </p:nvGrpSpPr>
        <p:grpSpPr>
          <a:xfrm>
            <a:off x="4548240" y="4956120"/>
            <a:ext cx="1517760" cy="895320"/>
            <a:chOff x="4548240" y="4956120"/>
            <a:chExt cx="1517760" cy="895320"/>
          </a:xfrm>
        </p:grpSpPr>
        <p:pic>
          <p:nvPicPr>
            <p:cNvPr id="289" name="Овал 10" descr=""/>
            <p:cNvPicPr/>
            <p:nvPr/>
          </p:nvPicPr>
          <p:blipFill>
            <a:blip r:embed="rId10"/>
            <a:stretch/>
          </p:blipFill>
          <p:spPr>
            <a:xfrm>
              <a:off x="4548240" y="4956120"/>
              <a:ext cx="15177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809960" y="5100480"/>
              <a:ext cx="9892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e5"/>
                  </a:solidFill>
                  <a:latin typeface="Times New Roman"/>
                </a:rPr>
                <a:t>12432,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Овал 11"/>
          <p:cNvGrpSpPr/>
          <p:nvPr/>
        </p:nvGrpSpPr>
        <p:grpSpPr>
          <a:xfrm>
            <a:off x="8431200" y="4816440"/>
            <a:ext cx="1419120" cy="895320"/>
            <a:chOff x="8431200" y="4816440"/>
            <a:chExt cx="1419120" cy="895320"/>
          </a:xfrm>
        </p:grpSpPr>
        <p:pic>
          <p:nvPicPr>
            <p:cNvPr id="292" name="Овал 11" descr=""/>
            <p:cNvPicPr/>
            <p:nvPr/>
          </p:nvPicPr>
          <p:blipFill>
            <a:blip r:embed="rId11"/>
            <a:stretch/>
          </p:blipFill>
          <p:spPr>
            <a:xfrm>
              <a:off x="8431200" y="4816440"/>
              <a:ext cx="14191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682120" y="4959360"/>
              <a:ext cx="9190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e5"/>
                  </a:solidFill>
                  <a:latin typeface="Times New Roman"/>
                </a:rPr>
                <a:t>4</a:t>
              </a:r>
              <a:r>
                <a:rPr b="1" lang="en-US" sz="1800" spc="-1" strike="noStrike">
                  <a:solidFill>
                    <a:srgbClr val="0000e5"/>
                  </a:solidFill>
                  <a:latin typeface="Times New Roman"/>
                </a:rPr>
                <a:t>7</a:t>
              </a:r>
              <a:r>
                <a:rPr b="1" lang="ru-RU" sz="1800" spc="-1" strike="noStrike">
                  <a:solidFill>
                    <a:srgbClr val="0000e5"/>
                  </a:solidFill>
                  <a:latin typeface="Times New Roman"/>
                </a:rPr>
                <a:t>,</a:t>
              </a:r>
              <a:r>
                <a:rPr b="1" lang="en-US" sz="1800" spc="-1" strike="noStrike">
                  <a:solidFill>
                    <a:srgbClr val="0000e5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9" descr=""/>
          <p:cNvPicPr/>
          <p:nvPr/>
        </p:nvPicPr>
        <p:blipFill>
          <a:blip r:embed="rId1"/>
          <a:stretch/>
        </p:blipFill>
        <p:spPr>
          <a:xfrm>
            <a:off x="6562800" y="514440"/>
            <a:ext cx="3349440" cy="1574640"/>
          </a:xfrm>
          <a:prstGeom prst="rect">
            <a:avLst/>
          </a:prstGeom>
          <a:ln w="0">
            <a:noFill/>
          </a:ln>
        </p:spPr>
      </p:pic>
      <p:sp>
        <p:nvSpPr>
          <p:cNvPr id="295" name="object 39"/>
          <p:cNvSpPr/>
          <p:nvPr/>
        </p:nvSpPr>
        <p:spPr>
          <a:xfrm>
            <a:off x="-3240" y="2635200"/>
            <a:ext cx="4481640" cy="1724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М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«Организация благоустройства территории и содержание объектов внешнего благоустройств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ятиугольник 47"/>
          <p:cNvSpPr/>
          <p:nvPr/>
        </p:nvSpPr>
        <p:spPr>
          <a:xfrm>
            <a:off x="4362480" y="2698920"/>
            <a:ext cx="2752560" cy="24588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5" y="0"/>
                </a:lnTo>
                <a:lnTo>
                  <a:pt x="21600" y="10800"/>
                </a:lnTo>
                <a:lnTo>
                  <a:pt x="206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ние территор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Пятиугольник 48"/>
          <p:cNvSpPr/>
          <p:nvPr/>
        </p:nvSpPr>
        <p:spPr>
          <a:xfrm>
            <a:off x="4346640" y="3030480"/>
            <a:ext cx="3798720" cy="246240"/>
          </a:xfrm>
          <a:custGeom>
            <a:avLst/>
            <a:gdLst>
              <a:gd name="textAreaLeft" fmla="*/ 0 w 3798720"/>
              <a:gd name="textAreaRight" fmla="*/ 3799080 w 37987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1" y="0"/>
                </a:lnTo>
                <a:lnTo>
                  <a:pt x="21600" y="10800"/>
                </a:lnTo>
                <a:lnTo>
                  <a:pt x="209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вещение ули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ятиугольник 49"/>
          <p:cNvSpPr/>
          <p:nvPr/>
        </p:nvSpPr>
        <p:spPr>
          <a:xfrm>
            <a:off x="4346640" y="3352680"/>
            <a:ext cx="3085920" cy="2462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9" y="0"/>
                </a:lnTo>
                <a:lnTo>
                  <a:pt x="21600" y="10800"/>
                </a:lnTo>
                <a:lnTo>
                  <a:pt x="20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ста захорон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Пятиугольник 51"/>
          <p:cNvSpPr/>
          <p:nvPr/>
        </p:nvSpPr>
        <p:spPr>
          <a:xfrm>
            <a:off x="4346640" y="3639960"/>
            <a:ext cx="3798720" cy="339840"/>
          </a:xfrm>
          <a:custGeom>
            <a:avLst/>
            <a:gdLst>
              <a:gd name="textAreaLeft" fmla="*/ 0 w 3798720"/>
              <a:gd name="textAreaRight" fmla="*/ 3799080 w 3798720"/>
              <a:gd name="textAreaTop" fmla="*/ 0 h 339840"/>
              <a:gd name="textAreaBottom" fmla="*/ 339840 h 3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4" y="0"/>
                </a:lnTo>
                <a:lnTo>
                  <a:pt x="21600" y="10800"/>
                </a:lnTo>
                <a:lnTo>
                  <a:pt x="206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деятельности МБУ АУГ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Овал 53"/>
          <p:cNvGrpSpPr/>
          <p:nvPr/>
        </p:nvGrpSpPr>
        <p:grpSpPr>
          <a:xfrm>
            <a:off x="7089840" y="2535120"/>
            <a:ext cx="1272960" cy="579600"/>
            <a:chOff x="7089840" y="2535120"/>
            <a:chExt cx="1272960" cy="579600"/>
          </a:xfrm>
        </p:grpSpPr>
        <p:pic>
          <p:nvPicPr>
            <p:cNvPr id="301" name="Овал 53" descr=""/>
            <p:cNvPicPr/>
            <p:nvPr/>
          </p:nvPicPr>
          <p:blipFill>
            <a:blip r:embed="rId3"/>
            <a:stretch/>
          </p:blipFill>
          <p:spPr>
            <a:xfrm>
              <a:off x="7089840" y="2535120"/>
              <a:ext cx="12729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319880" y="2633760"/>
              <a:ext cx="8128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e5"/>
                  </a:solidFill>
                  <a:latin typeface="Times New Roman"/>
                </a:rPr>
                <a:t>985,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Овал 55"/>
          <p:cNvGrpSpPr/>
          <p:nvPr/>
        </p:nvGrpSpPr>
        <p:grpSpPr>
          <a:xfrm>
            <a:off x="8229600" y="2736720"/>
            <a:ext cx="1407960" cy="695520"/>
            <a:chOff x="8229600" y="2736720"/>
            <a:chExt cx="1407960" cy="695520"/>
          </a:xfrm>
        </p:grpSpPr>
        <p:pic>
          <p:nvPicPr>
            <p:cNvPr id="304" name="Овал 55" descr=""/>
            <p:cNvPicPr/>
            <p:nvPr/>
          </p:nvPicPr>
          <p:blipFill>
            <a:blip r:embed="rId4"/>
            <a:stretch/>
          </p:blipFill>
          <p:spPr>
            <a:xfrm>
              <a:off x="8229600" y="2736720"/>
              <a:ext cx="1407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480520" y="2854440"/>
              <a:ext cx="907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e5"/>
                  </a:solidFill>
                  <a:latin typeface="Times New Roman"/>
                </a:rPr>
                <a:t>2250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object 29"/>
          <p:cNvSpPr/>
          <p:nvPr/>
        </p:nvSpPr>
        <p:spPr>
          <a:xfrm>
            <a:off x="1490760" y="5881680"/>
            <a:ext cx="7705800" cy="316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СЕГО                               78 774,4         74 163,5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74 163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4440600" y="6197760"/>
            <a:ext cx="36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57,9%              56,8%              58,5 %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Овал 74"/>
          <p:cNvGrpSpPr/>
          <p:nvPr/>
        </p:nvGrpSpPr>
        <p:grpSpPr>
          <a:xfrm>
            <a:off x="334800" y="2670120"/>
            <a:ext cx="1731960" cy="792360"/>
            <a:chOff x="334800" y="2670120"/>
            <a:chExt cx="1731960" cy="792360"/>
          </a:xfrm>
        </p:grpSpPr>
        <p:pic>
          <p:nvPicPr>
            <p:cNvPr id="309" name="Овал 74" descr=""/>
            <p:cNvPicPr/>
            <p:nvPr/>
          </p:nvPicPr>
          <p:blipFill>
            <a:blip r:embed="rId5"/>
            <a:stretch/>
          </p:blipFill>
          <p:spPr>
            <a:xfrm>
              <a:off x="334800" y="2670120"/>
              <a:ext cx="17319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33240" y="2820960"/>
              <a:ext cx="11401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</a:rPr>
                <a:t>70 172,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</a:rPr>
                <a:t>20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TextBox 1"/>
          <p:cNvSpPr/>
          <p:nvPr/>
        </p:nvSpPr>
        <p:spPr>
          <a:xfrm>
            <a:off x="8482680" y="-120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ject 39"/>
          <p:cNvSpPr/>
          <p:nvPr/>
        </p:nvSpPr>
        <p:spPr>
          <a:xfrm>
            <a:off x="74520" y="4538520"/>
            <a:ext cx="4229280" cy="121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МП «Формирование современной городской среды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Овал 85"/>
          <p:cNvGrpSpPr/>
          <p:nvPr/>
        </p:nvGrpSpPr>
        <p:grpSpPr>
          <a:xfrm>
            <a:off x="8083440" y="3554280"/>
            <a:ext cx="1835280" cy="590760"/>
            <a:chOff x="8083440" y="3554280"/>
            <a:chExt cx="1835280" cy="590760"/>
          </a:xfrm>
        </p:grpSpPr>
        <p:pic>
          <p:nvPicPr>
            <p:cNvPr id="314" name="Овал 85" descr=""/>
            <p:cNvPicPr/>
            <p:nvPr/>
          </p:nvPicPr>
          <p:blipFill>
            <a:blip r:embed="rId6"/>
            <a:stretch/>
          </p:blipFill>
          <p:spPr>
            <a:xfrm>
              <a:off x="8083440" y="3554280"/>
              <a:ext cx="183528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8396280" y="3649680"/>
              <a:ext cx="12128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e5"/>
                  </a:solidFill>
                  <a:latin typeface="Times New Roman"/>
                </a:rPr>
                <a:t>43 587,9-</a:t>
              </a:r>
              <a:r>
                <a:rPr b="1" lang="ru-RU" sz="1000" spc="-1" strike="noStrike">
                  <a:solidFill>
                    <a:srgbClr val="0000e5"/>
                  </a:solidFill>
                  <a:latin typeface="Times New Roman"/>
                </a:rPr>
                <a:t>20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e5"/>
                  </a:solidFill>
                  <a:latin typeface="Times New Roman"/>
                </a:rPr>
                <a:t>46 742,0-2026,20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Пятиугольник 54"/>
          <p:cNvSpPr/>
          <p:nvPr/>
        </p:nvSpPr>
        <p:spPr>
          <a:xfrm>
            <a:off x="4282920" y="5005440"/>
            <a:ext cx="2529000" cy="496800"/>
          </a:xfrm>
          <a:custGeom>
            <a:avLst/>
            <a:gdLst>
              <a:gd name="textAreaLeft" fmla="*/ 0 w 2529000"/>
              <a:gd name="textAreaRight" fmla="*/ 2529360 w 2529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8" y="0"/>
                </a:lnTo>
                <a:lnTo>
                  <a:pt x="21600" y="10800"/>
                </a:lnTo>
                <a:lnTo>
                  <a:pt x="194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Д «Красный берег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Овал 60"/>
          <p:cNvGrpSpPr/>
          <p:nvPr/>
        </p:nvGrpSpPr>
        <p:grpSpPr>
          <a:xfrm>
            <a:off x="1268280" y="4511520"/>
            <a:ext cx="1498680" cy="749520"/>
            <a:chOff x="1268280" y="4511520"/>
            <a:chExt cx="1498680" cy="749520"/>
          </a:xfrm>
        </p:grpSpPr>
        <p:pic>
          <p:nvPicPr>
            <p:cNvPr id="318" name="Овал 60" descr=""/>
            <p:cNvPicPr/>
            <p:nvPr/>
          </p:nvPicPr>
          <p:blipFill>
            <a:blip r:embed="rId7"/>
            <a:stretch/>
          </p:blipFill>
          <p:spPr>
            <a:xfrm>
              <a:off x="1268280" y="4511520"/>
              <a:ext cx="1498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530360" y="4627440"/>
              <a:ext cx="9748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</a:rPr>
                <a:t>5 16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</a:rPr>
                <a:t>20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object 24"/>
          <p:cNvSpPr/>
          <p:nvPr/>
        </p:nvSpPr>
        <p:spPr>
          <a:xfrm>
            <a:off x="-38160" y="347760"/>
            <a:ext cx="3942000" cy="23968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«Улуч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жилищных условий гражд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 повышение качества жилищно-коммунальных услуг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Овал 2"/>
          <p:cNvGrpSpPr/>
          <p:nvPr/>
        </p:nvGrpSpPr>
        <p:grpSpPr>
          <a:xfrm>
            <a:off x="1006560" y="291960"/>
            <a:ext cx="1865160" cy="835200"/>
            <a:chOff x="1006560" y="291960"/>
            <a:chExt cx="1865160" cy="835200"/>
          </a:xfrm>
        </p:grpSpPr>
        <p:pic>
          <p:nvPicPr>
            <p:cNvPr id="322" name="Овал 2" descr=""/>
            <p:cNvPicPr/>
            <p:nvPr/>
          </p:nvPicPr>
          <p:blipFill>
            <a:blip r:embed="rId9"/>
            <a:stretch/>
          </p:blipFill>
          <p:spPr>
            <a:xfrm>
              <a:off x="1006560" y="291960"/>
              <a:ext cx="1865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320840" y="455760"/>
              <a:ext cx="12319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e5"/>
                  </a:solidFill>
                  <a:latin typeface="Times New Roman"/>
                </a:rPr>
                <a:t>3</a:t>
              </a:r>
              <a:r>
                <a:rPr b="1" lang="ru-RU" sz="1800" spc="-1" strike="noStrike">
                  <a:solidFill>
                    <a:srgbClr val="0000e5"/>
                  </a:solidFill>
                  <a:latin typeface="Times New Roman"/>
                </a:rPr>
                <a:t> 4</a:t>
              </a:r>
              <a:r>
                <a:rPr b="1" lang="en-US" sz="1800" spc="-1" strike="noStrike">
                  <a:solidFill>
                    <a:srgbClr val="0000e5"/>
                  </a:solidFill>
                  <a:latin typeface="Times New Roman"/>
                </a:rPr>
                <a:t>36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</a:rPr>
                <a:t>202</a:t>
              </a:r>
              <a:r>
                <a:rPr b="1" lang="ru-RU" sz="1600" spc="-1" strike="noStrike">
                  <a:solidFill>
                    <a:srgbClr val="0000e5"/>
                  </a:solidFill>
                  <a:latin typeface="Times New Roman"/>
                </a:rPr>
                <a:t>5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</a:rPr>
                <a:t>-</a:t>
              </a:r>
              <a:r>
                <a:rPr b="1" lang="ru-RU" sz="1600" spc="-1" strike="noStrike">
                  <a:solidFill>
                    <a:srgbClr val="0000e5"/>
                  </a:solidFill>
                  <a:latin typeface="Times New Roman"/>
                </a:rPr>
                <a:t>20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Пятиугольник 22"/>
          <p:cNvSpPr/>
          <p:nvPr/>
        </p:nvSpPr>
        <p:spPr>
          <a:xfrm>
            <a:off x="3800520" y="523800"/>
            <a:ext cx="3085920" cy="2462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9" y="0"/>
                </a:lnTo>
                <a:lnTo>
                  <a:pt x="21600" y="10800"/>
                </a:lnTo>
                <a:lnTo>
                  <a:pt x="20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питальный ремонт Ж/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Овал 6"/>
          <p:cNvGrpSpPr/>
          <p:nvPr/>
        </p:nvGrpSpPr>
        <p:grpSpPr>
          <a:xfrm>
            <a:off x="6894360" y="378000"/>
            <a:ext cx="1548000" cy="622080"/>
            <a:chOff x="6894360" y="378000"/>
            <a:chExt cx="1548000" cy="622080"/>
          </a:xfrm>
        </p:grpSpPr>
        <p:pic>
          <p:nvPicPr>
            <p:cNvPr id="326" name="Овал 6" descr=""/>
            <p:cNvPicPr/>
            <p:nvPr/>
          </p:nvPicPr>
          <p:blipFill>
            <a:blip r:embed="rId10"/>
            <a:stretch/>
          </p:blipFill>
          <p:spPr>
            <a:xfrm>
              <a:off x="6894360" y="378000"/>
              <a:ext cx="154800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165800" y="488880"/>
              <a:ext cx="1006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730,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Пятиугольник 25"/>
          <p:cNvSpPr/>
          <p:nvPr/>
        </p:nvSpPr>
        <p:spPr>
          <a:xfrm>
            <a:off x="3787920" y="857160"/>
            <a:ext cx="3098520" cy="276480"/>
          </a:xfrm>
          <a:custGeom>
            <a:avLst/>
            <a:gdLst>
              <a:gd name="textAreaLeft" fmla="*/ 0 w 3098520"/>
              <a:gd name="textAreaRight" fmla="*/ 3098880 w 30985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7" y="0"/>
                </a:lnTo>
                <a:lnTo>
                  <a:pt x="21600" y="10800"/>
                </a:lnTo>
                <a:lnTo>
                  <a:pt x="206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х. обслуживание газопров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ятиугольник 50"/>
          <p:cNvSpPr/>
          <p:nvPr/>
        </p:nvSpPr>
        <p:spPr>
          <a:xfrm>
            <a:off x="3749760" y="1206360"/>
            <a:ext cx="2520720" cy="37476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3" y="0"/>
                </a:lnTo>
                <a:lnTo>
                  <a:pt x="21600" y="10800"/>
                </a:lnTo>
                <a:lnTo>
                  <a:pt x="199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держание муниципального жилого фон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ятиугольник 66"/>
          <p:cNvSpPr/>
          <p:nvPr/>
        </p:nvSpPr>
        <p:spPr>
          <a:xfrm>
            <a:off x="3728880" y="1682640"/>
            <a:ext cx="3386160" cy="43020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нергосбережение, установка приб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а водоснаб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Пятиугольник 78"/>
          <p:cNvSpPr/>
          <p:nvPr/>
        </p:nvSpPr>
        <p:spPr>
          <a:xfrm>
            <a:off x="3699000" y="2205000"/>
            <a:ext cx="3767040" cy="318960"/>
          </a:xfrm>
          <a:custGeom>
            <a:avLst/>
            <a:gdLst>
              <a:gd name="textAreaLeft" fmla="*/ 0 w 3767040"/>
              <a:gd name="textAreaRight" fmla="*/ 3767400 w 37670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7" y="0"/>
                </a:lnTo>
                <a:lnTo>
                  <a:pt x="21600" y="10800"/>
                </a:lnTo>
                <a:lnTo>
                  <a:pt x="20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уализация схем теплоснаб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2808360" y="414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илищно-коммунальное хозяйство (тыс. рубл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Овал 15"/>
          <p:cNvGrpSpPr/>
          <p:nvPr/>
        </p:nvGrpSpPr>
        <p:grpSpPr>
          <a:xfrm>
            <a:off x="6900840" y="755640"/>
            <a:ext cx="1541520" cy="622440"/>
            <a:chOff x="6900840" y="755640"/>
            <a:chExt cx="1541520" cy="622440"/>
          </a:xfrm>
        </p:grpSpPr>
        <p:pic>
          <p:nvPicPr>
            <p:cNvPr id="334" name="Овал 15" descr=""/>
            <p:cNvPicPr/>
            <p:nvPr/>
          </p:nvPicPr>
          <p:blipFill>
            <a:blip r:embed="rId11"/>
            <a:stretch/>
          </p:blipFill>
          <p:spPr>
            <a:xfrm>
              <a:off x="6900840" y="755640"/>
              <a:ext cx="15415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167600" y="900000"/>
              <a:ext cx="100476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1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Овал 18"/>
          <p:cNvGrpSpPr/>
          <p:nvPr/>
        </p:nvGrpSpPr>
        <p:grpSpPr>
          <a:xfrm>
            <a:off x="6303960" y="1152360"/>
            <a:ext cx="1335240" cy="621000"/>
            <a:chOff x="6303960" y="1152360"/>
            <a:chExt cx="1335240" cy="621000"/>
          </a:xfrm>
        </p:grpSpPr>
        <p:pic>
          <p:nvPicPr>
            <p:cNvPr id="337" name="Овал 18" descr=""/>
            <p:cNvPicPr/>
            <p:nvPr/>
          </p:nvPicPr>
          <p:blipFill>
            <a:blip r:embed="rId12"/>
            <a:stretch/>
          </p:blipFill>
          <p:spPr>
            <a:xfrm>
              <a:off x="6303960" y="1152360"/>
              <a:ext cx="13352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543720" y="1300320"/>
              <a:ext cx="85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525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Овал 19"/>
          <p:cNvGrpSpPr/>
          <p:nvPr/>
        </p:nvGrpSpPr>
        <p:grpSpPr>
          <a:xfrm>
            <a:off x="7102440" y="1536840"/>
            <a:ext cx="1249560" cy="645840"/>
            <a:chOff x="7102440" y="1536840"/>
            <a:chExt cx="1249560" cy="645840"/>
          </a:xfrm>
        </p:grpSpPr>
        <p:pic>
          <p:nvPicPr>
            <p:cNvPr id="340" name="Овал 19" descr=""/>
            <p:cNvPicPr/>
            <p:nvPr/>
          </p:nvPicPr>
          <p:blipFill>
            <a:blip r:embed="rId13"/>
            <a:stretch/>
          </p:blipFill>
          <p:spPr>
            <a:xfrm>
              <a:off x="7102440" y="1536840"/>
              <a:ext cx="124956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327800" y="1674720"/>
              <a:ext cx="79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Овал 20"/>
          <p:cNvGrpSpPr/>
          <p:nvPr/>
        </p:nvGrpSpPr>
        <p:grpSpPr>
          <a:xfrm>
            <a:off x="7686720" y="2023920"/>
            <a:ext cx="1542960" cy="646200"/>
            <a:chOff x="7686720" y="2023920"/>
            <a:chExt cx="1542960" cy="646200"/>
          </a:xfrm>
        </p:grpSpPr>
        <p:pic>
          <p:nvPicPr>
            <p:cNvPr id="343" name="Овал 20" descr=""/>
            <p:cNvPicPr/>
            <p:nvPr/>
          </p:nvPicPr>
          <p:blipFill>
            <a:blip r:embed="rId14"/>
            <a:stretch/>
          </p:blipFill>
          <p:spPr>
            <a:xfrm>
              <a:off x="7686720" y="2023920"/>
              <a:ext cx="15429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954920" y="2151000"/>
              <a:ext cx="10065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Овал 1"/>
          <p:cNvGrpSpPr/>
          <p:nvPr/>
        </p:nvGrpSpPr>
        <p:grpSpPr>
          <a:xfrm>
            <a:off x="2292480" y="2664000"/>
            <a:ext cx="1736640" cy="785520"/>
            <a:chOff x="2292480" y="2664000"/>
            <a:chExt cx="1736640" cy="785520"/>
          </a:xfrm>
        </p:grpSpPr>
        <p:pic>
          <p:nvPicPr>
            <p:cNvPr id="346" name="Овал 1" descr=""/>
            <p:cNvPicPr/>
            <p:nvPr/>
          </p:nvPicPr>
          <p:blipFill>
            <a:blip r:embed="rId15"/>
            <a:stretch/>
          </p:blipFill>
          <p:spPr>
            <a:xfrm>
              <a:off x="2292480" y="2664000"/>
              <a:ext cx="173664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592360" y="2817720"/>
              <a:ext cx="1138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</a:rPr>
                <a:t>70 727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</a:rPr>
                <a:t>2026-20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Овал 7"/>
          <p:cNvGrpSpPr/>
          <p:nvPr/>
        </p:nvGrpSpPr>
        <p:grpSpPr>
          <a:xfrm>
            <a:off x="7516800" y="3249720"/>
            <a:ext cx="1073160" cy="554040"/>
            <a:chOff x="7516800" y="3249720"/>
            <a:chExt cx="1073160" cy="554040"/>
          </a:xfrm>
        </p:grpSpPr>
        <p:pic>
          <p:nvPicPr>
            <p:cNvPr id="349" name="Овал 7" descr=""/>
            <p:cNvPicPr/>
            <p:nvPr/>
          </p:nvPicPr>
          <p:blipFill>
            <a:blip r:embed="rId16"/>
            <a:stretch/>
          </p:blipFill>
          <p:spPr>
            <a:xfrm>
              <a:off x="7516800" y="3249720"/>
              <a:ext cx="10731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715160" y="3341520"/>
              <a:ext cx="67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e5"/>
                  </a:solidFill>
                  <a:latin typeface="Times New Roman"/>
                </a:rPr>
                <a:t>50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e5"/>
                  </a:solidFill>
                  <a:latin typeface="Times New Roman"/>
                </a:rPr>
                <a:t>ежегодн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Пятиугольник 47"/>
          <p:cNvSpPr/>
          <p:nvPr/>
        </p:nvSpPr>
        <p:spPr>
          <a:xfrm>
            <a:off x="4313160" y="4041720"/>
            <a:ext cx="2838600" cy="246240"/>
          </a:xfrm>
          <a:custGeom>
            <a:avLst/>
            <a:gdLst>
              <a:gd name="textAreaLeft" fmla="*/ 0 w 2838600"/>
              <a:gd name="textAreaRight" fmla="*/ 2838960 w 28386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витие территории гор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Овал 14"/>
          <p:cNvGrpSpPr/>
          <p:nvPr/>
        </p:nvGrpSpPr>
        <p:grpSpPr>
          <a:xfrm>
            <a:off x="7126200" y="3902040"/>
            <a:ext cx="1158840" cy="547560"/>
            <a:chOff x="7126200" y="3902040"/>
            <a:chExt cx="1158840" cy="547560"/>
          </a:xfrm>
        </p:grpSpPr>
        <p:pic>
          <p:nvPicPr>
            <p:cNvPr id="353" name="Овал 14" descr=""/>
            <p:cNvPicPr/>
            <p:nvPr/>
          </p:nvPicPr>
          <p:blipFill>
            <a:blip r:embed="rId17"/>
            <a:stretch/>
          </p:blipFill>
          <p:spPr>
            <a:xfrm>
              <a:off x="7126200" y="3902040"/>
              <a:ext cx="1158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337520" y="4006800"/>
              <a:ext cx="736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e5"/>
                  </a:solidFill>
                  <a:latin typeface="Times New Roman"/>
                </a:rPr>
                <a:t>2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e5"/>
                  </a:solidFill>
                  <a:latin typeface="Times New Roman"/>
                </a:rPr>
                <a:t>20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5" name="Picture 79" descr=""/>
          <p:cNvPicPr/>
          <p:nvPr/>
        </p:nvPicPr>
        <p:blipFill>
          <a:blip r:embed="rId18"/>
          <a:stretch/>
        </p:blipFill>
        <p:spPr>
          <a:xfrm>
            <a:off x="6837480" y="4383000"/>
            <a:ext cx="2886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1" descr="C:\Users\SolovevaNV\Desktop\stavki-procenty.jpg"/>
          <p:cNvPicPr/>
          <p:nvPr/>
        </p:nvPicPr>
        <p:blipFill>
          <a:blip r:embed="rId1"/>
          <a:stretch/>
        </p:blipFill>
        <p:spPr>
          <a:xfrm rot="19978800">
            <a:off x="3570120" y="5597640"/>
            <a:ext cx="2076480" cy="13158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"/>
          <p:cNvPicPr/>
          <p:nvPr/>
        </p:nvPicPr>
        <p:blipFill>
          <a:blip r:embed="rId2"/>
          <a:stretch/>
        </p:blipFill>
        <p:spPr>
          <a:xfrm rot="19826400">
            <a:off x="2674800" y="5217840"/>
            <a:ext cx="1373400" cy="12999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"/>
          <p:cNvPicPr/>
          <p:nvPr/>
        </p:nvPicPr>
        <p:blipFill>
          <a:blip r:embed="rId3"/>
          <a:stretch/>
        </p:blipFill>
        <p:spPr>
          <a:xfrm rot="19896600">
            <a:off x="1407960" y="3360600"/>
            <a:ext cx="2649600" cy="21970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5" descr=""/>
          <p:cNvPicPr/>
          <p:nvPr/>
        </p:nvPicPr>
        <p:blipFill>
          <a:blip r:embed="rId4"/>
          <a:stretch/>
        </p:blipFill>
        <p:spPr>
          <a:xfrm rot="19860000">
            <a:off x="966960" y="3457080"/>
            <a:ext cx="1390320" cy="9241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3" descr=""/>
          <p:cNvPicPr/>
          <p:nvPr/>
        </p:nvPicPr>
        <p:blipFill>
          <a:blip r:embed="rId5"/>
          <a:stretch/>
        </p:blipFill>
        <p:spPr>
          <a:xfrm rot="19905000">
            <a:off x="355320" y="1487160"/>
            <a:ext cx="1428840" cy="21542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" descr=""/>
          <p:cNvPicPr/>
          <p:nvPr/>
        </p:nvPicPr>
        <p:blipFill>
          <a:blip r:embed="rId6"/>
          <a:stretch/>
        </p:blipFill>
        <p:spPr>
          <a:xfrm rot="19908600">
            <a:off x="29880" y="1406160"/>
            <a:ext cx="1519200" cy="1265400"/>
          </a:xfrm>
          <a:prstGeom prst="rect">
            <a:avLst/>
          </a:prstGeom>
          <a:ln w="0">
            <a:noFill/>
          </a:ln>
        </p:spPr>
      </p:pic>
      <p:sp>
        <p:nvSpPr>
          <p:cNvPr id="362" name="object 21"/>
          <p:cNvSpPr/>
          <p:nvPr/>
        </p:nvSpPr>
        <p:spPr>
          <a:xfrm rot="19972800">
            <a:off x="5810400" y="2965320"/>
            <a:ext cx="1846080" cy="308160"/>
          </a:xfrm>
          <a:prstGeom prst="rect">
            <a:avLst/>
          </a:prstGeom>
          <a:solidFill>
            <a:srgbClr val="ebebf5"/>
          </a:solidFill>
          <a:ln w="0">
            <a:noFill/>
          </a:ln>
          <a:effectLst>
            <a:outerShdw dist="50760" dir="5400000" blurRad="0" rotWithShape="0">
              <a:srgbClr val="ebebf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мероприя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20"/>
          <p:cNvSpPr/>
          <p:nvPr/>
        </p:nvSpPr>
        <p:spPr>
          <a:xfrm rot="19512600">
            <a:off x="3174480" y="7254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0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bject 18"/>
          <p:cNvSpPr/>
          <p:nvPr/>
        </p:nvSpPr>
        <p:spPr>
          <a:xfrm rot="20075400">
            <a:off x="306360" y="822240"/>
            <a:ext cx="2903400" cy="1403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«Вовлечение молодежи в социальную практику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bject 22"/>
          <p:cNvSpPr/>
          <p:nvPr/>
        </p:nvSpPr>
        <p:spPr>
          <a:xfrm rot="19987200">
            <a:off x="1292040" y="1778040"/>
            <a:ext cx="2684160" cy="12272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ведение культурно-массовых меропри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bject 39"/>
          <p:cNvSpPr/>
          <p:nvPr/>
        </p:nvSpPr>
        <p:spPr>
          <a:xfrm rot="19906800">
            <a:off x="2020680" y="2611080"/>
            <a:ext cx="2836800" cy="10494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СОЦИАЛЬНАЯ ПОЛИ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енсионное обеспе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Овал 2"/>
          <p:cNvGrpSpPr/>
          <p:nvPr/>
        </p:nvGrpSpPr>
        <p:grpSpPr>
          <a:xfrm>
            <a:off x="2468520" y="-55440"/>
            <a:ext cx="1542960" cy="1280880"/>
            <a:chOff x="2468520" y="-55440"/>
            <a:chExt cx="1542960" cy="1280880"/>
          </a:xfrm>
        </p:grpSpPr>
        <p:pic>
          <p:nvPicPr>
            <p:cNvPr id="368" name="Овал 2" descr=""/>
            <p:cNvPicPr/>
            <p:nvPr/>
          </p:nvPicPr>
          <p:blipFill>
            <a:blip r:embed="rId10"/>
            <a:stretch/>
          </p:blipFill>
          <p:spPr>
            <a:xfrm>
              <a:off x="2468520" y="-55440"/>
              <a:ext cx="15429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9932000">
              <a:off x="2754360" y="334440"/>
              <a:ext cx="96840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0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bject 24"/>
          <p:cNvSpPr/>
          <p:nvPr/>
        </p:nvSpPr>
        <p:spPr>
          <a:xfrm rot="19935000">
            <a:off x="2887200" y="3196800"/>
            <a:ext cx="3186360" cy="14004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ФИЗКУЛЬТУРА И 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«Развитие физической культуры и спорт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Скругленный прямоугольник 4"/>
          <p:cNvGrpSpPr/>
          <p:nvPr/>
        </p:nvGrpSpPr>
        <p:grpSpPr>
          <a:xfrm>
            <a:off x="3498840" y="3986280"/>
            <a:ext cx="2736720" cy="2212920"/>
            <a:chOff x="3498840" y="3986280"/>
            <a:chExt cx="2736720" cy="2212920"/>
          </a:xfrm>
        </p:grpSpPr>
        <p:pic>
          <p:nvPicPr>
            <p:cNvPr id="372" name="Скругленный прямоугольник 4" descr=""/>
            <p:cNvPicPr/>
            <p:nvPr/>
          </p:nvPicPr>
          <p:blipFill>
            <a:blip r:embed="rId12"/>
            <a:stretch/>
          </p:blipFill>
          <p:spPr>
            <a:xfrm>
              <a:off x="3498840" y="3986280"/>
              <a:ext cx="273672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rot="19965600">
              <a:off x="3716280" y="4546440"/>
              <a:ext cx="23050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РЕДСТВА МАССОВОЙ ИНФОРМА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object 21"/>
          <p:cNvSpPr/>
          <p:nvPr/>
        </p:nvSpPr>
        <p:spPr>
          <a:xfrm rot="19906200">
            <a:off x="6578640" y="3530160"/>
            <a:ext cx="3120840" cy="538200"/>
          </a:xfrm>
          <a:prstGeom prst="rect">
            <a:avLst/>
          </a:prstGeom>
          <a:solidFill>
            <a:srgbClr val="ebebf5"/>
          </a:solidFill>
          <a:ln w="0">
            <a:noFill/>
          </a:ln>
          <a:effectLst>
            <a:outerShdw dist="50760" dir="5400000" blurRad="0" rotWithShape="0">
              <a:srgbClr val="ebebf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содержание муниципальной газеты «Русса-Информ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7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Овал 24"/>
          <p:cNvGrpSpPr/>
          <p:nvPr/>
        </p:nvGrpSpPr>
        <p:grpSpPr>
          <a:xfrm>
            <a:off x="4462560" y="1468440"/>
            <a:ext cx="1541520" cy="1287360"/>
            <a:chOff x="4462560" y="1468440"/>
            <a:chExt cx="1541520" cy="1287360"/>
          </a:xfrm>
        </p:grpSpPr>
        <p:pic>
          <p:nvPicPr>
            <p:cNvPr id="376" name="Овал 24" descr=""/>
            <p:cNvPicPr/>
            <p:nvPr/>
          </p:nvPicPr>
          <p:blipFill>
            <a:blip r:embed="rId13"/>
            <a:stretch/>
          </p:blipFill>
          <p:spPr>
            <a:xfrm>
              <a:off x="4462560" y="1468440"/>
              <a:ext cx="15415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 rot="19932000">
              <a:off x="4750920" y="1862280"/>
              <a:ext cx="9684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7,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Овал 25"/>
          <p:cNvGrpSpPr/>
          <p:nvPr/>
        </p:nvGrpSpPr>
        <p:grpSpPr>
          <a:xfrm>
            <a:off x="3517920" y="781200"/>
            <a:ext cx="1365120" cy="1157040"/>
            <a:chOff x="3517920" y="781200"/>
            <a:chExt cx="1365120" cy="1157040"/>
          </a:xfrm>
        </p:grpSpPr>
        <p:pic>
          <p:nvPicPr>
            <p:cNvPr id="379" name="Овал 25" descr=""/>
            <p:cNvPicPr/>
            <p:nvPr/>
          </p:nvPicPr>
          <p:blipFill>
            <a:blip r:embed="rId14"/>
            <a:stretch/>
          </p:blipFill>
          <p:spPr>
            <a:xfrm>
              <a:off x="3517920" y="781200"/>
              <a:ext cx="136512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rot="19932000">
              <a:off x="3787560" y="1122120"/>
              <a:ext cx="8254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00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Овал 27"/>
          <p:cNvGrpSpPr/>
          <p:nvPr/>
        </p:nvGrpSpPr>
        <p:grpSpPr>
          <a:xfrm>
            <a:off x="5499000" y="2077920"/>
            <a:ext cx="1560600" cy="1274760"/>
            <a:chOff x="5499000" y="2077920"/>
            <a:chExt cx="1560600" cy="1274760"/>
          </a:xfrm>
        </p:grpSpPr>
        <p:pic>
          <p:nvPicPr>
            <p:cNvPr id="382" name="Овал 27" descr=""/>
            <p:cNvPicPr/>
            <p:nvPr/>
          </p:nvPicPr>
          <p:blipFill>
            <a:blip r:embed="rId15"/>
            <a:stretch/>
          </p:blipFill>
          <p:spPr>
            <a:xfrm>
              <a:off x="5499000" y="2077920"/>
              <a:ext cx="15606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 rot="19932000">
              <a:off x="5796000" y="2476080"/>
              <a:ext cx="9684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0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Овал 29"/>
          <p:cNvGrpSpPr/>
          <p:nvPr/>
        </p:nvGrpSpPr>
        <p:grpSpPr>
          <a:xfrm>
            <a:off x="5688000" y="3505320"/>
            <a:ext cx="1541520" cy="1285920"/>
            <a:chOff x="5688000" y="3505320"/>
            <a:chExt cx="1541520" cy="1285920"/>
          </a:xfrm>
        </p:grpSpPr>
        <p:pic>
          <p:nvPicPr>
            <p:cNvPr id="385" name="Овал 29" descr=""/>
            <p:cNvPicPr/>
            <p:nvPr/>
          </p:nvPicPr>
          <p:blipFill>
            <a:blip r:embed="rId16"/>
            <a:stretch/>
          </p:blipFill>
          <p:spPr>
            <a:xfrm>
              <a:off x="5688000" y="3505320"/>
              <a:ext cx="1541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rot="19932000">
              <a:off x="5976720" y="3898800"/>
              <a:ext cx="96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ежегод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TextBox 20"/>
          <p:cNvSpPr/>
          <p:nvPr/>
        </p:nvSpPr>
        <p:spPr>
          <a:xfrm rot="19665000">
            <a:off x="5754600" y="13510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0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20"/>
          <p:cNvSpPr/>
          <p:nvPr/>
        </p:nvSpPr>
        <p:spPr>
          <a:xfrm rot="19927200">
            <a:off x="6786360" y="211752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Arial"/>
              </a:rPr>
              <a:t>0,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Box 20"/>
          <p:cNvSpPr/>
          <p:nvPr/>
        </p:nvSpPr>
        <p:spPr>
          <a:xfrm rot="19665000">
            <a:off x="6982560" y="33764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0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7"/>
          <a:stretch/>
        </p:blipFill>
        <p:spPr>
          <a:xfrm>
            <a:off x="-28440" y="9360"/>
            <a:ext cx="704880" cy="75420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391" name="TextBox 20"/>
          <p:cNvSpPr/>
          <p:nvPr/>
        </p:nvSpPr>
        <p:spPr>
          <a:xfrm rot="19818000">
            <a:off x="4204080" y="170172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Box 1"/>
          <p:cNvSpPr/>
          <p:nvPr/>
        </p:nvSpPr>
        <p:spPr>
          <a:xfrm>
            <a:off x="8209800" y="136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Скругленный прямоугольник 33"/>
          <p:cNvGrpSpPr/>
          <p:nvPr/>
        </p:nvGrpSpPr>
        <p:grpSpPr>
          <a:xfrm>
            <a:off x="4645080" y="4548240"/>
            <a:ext cx="2766960" cy="2266920"/>
            <a:chOff x="4645080" y="4548240"/>
            <a:chExt cx="2766960" cy="2266920"/>
          </a:xfrm>
        </p:grpSpPr>
        <p:pic>
          <p:nvPicPr>
            <p:cNvPr id="394" name="Скругленный прямоугольник 33" descr=""/>
            <p:cNvPicPr/>
            <p:nvPr/>
          </p:nvPicPr>
          <p:blipFill>
            <a:blip r:embed="rId18"/>
            <a:stretch/>
          </p:blipFill>
          <p:spPr>
            <a:xfrm>
              <a:off x="4645080" y="4548240"/>
              <a:ext cx="276696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 rot="19965600">
              <a:off x="4878000" y="5108040"/>
              <a:ext cx="22986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Обслуживание муниципального долг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Овал 34"/>
          <p:cNvGrpSpPr/>
          <p:nvPr/>
        </p:nvGrpSpPr>
        <p:grpSpPr>
          <a:xfrm>
            <a:off x="6980400" y="4340160"/>
            <a:ext cx="1541160" cy="1238400"/>
            <a:chOff x="6980400" y="4340160"/>
            <a:chExt cx="1541160" cy="1238400"/>
          </a:xfrm>
        </p:grpSpPr>
        <p:pic>
          <p:nvPicPr>
            <p:cNvPr id="397" name="Овал 34" descr=""/>
            <p:cNvPicPr/>
            <p:nvPr/>
          </p:nvPicPr>
          <p:blipFill>
            <a:blip r:embed="rId19"/>
            <a:stretch/>
          </p:blipFill>
          <p:spPr>
            <a:xfrm>
              <a:off x="6980400" y="4340160"/>
              <a:ext cx="15411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rot="19932000">
              <a:off x="7268760" y="4730400"/>
              <a:ext cx="968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24,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Box 20"/>
          <p:cNvSpPr/>
          <p:nvPr/>
        </p:nvSpPr>
        <p:spPr>
          <a:xfrm rot="19665000">
            <a:off x="7725600" y="5226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0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458320" y="95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Овал 1"/>
          <p:cNvGrpSpPr/>
          <p:nvPr/>
        </p:nvGrpSpPr>
        <p:grpSpPr>
          <a:xfrm>
            <a:off x="8242200" y="3657600"/>
            <a:ext cx="1541520" cy="1238400"/>
            <a:chOff x="8242200" y="3657600"/>
            <a:chExt cx="1541520" cy="1238400"/>
          </a:xfrm>
        </p:grpSpPr>
        <p:pic>
          <p:nvPicPr>
            <p:cNvPr id="402" name="Овал 1" descr=""/>
            <p:cNvPicPr/>
            <p:nvPr/>
          </p:nvPicPr>
          <p:blipFill>
            <a:blip r:embed="rId20"/>
            <a:stretch/>
          </p:blipFill>
          <p:spPr>
            <a:xfrm>
              <a:off x="8242200" y="3657600"/>
              <a:ext cx="15415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 rot="19932000">
              <a:off x="8527680" y="4051080"/>
              <a:ext cx="968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6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Овал 3"/>
          <p:cNvGrpSpPr/>
          <p:nvPr/>
        </p:nvGrpSpPr>
        <p:grpSpPr>
          <a:xfrm>
            <a:off x="8217000" y="4687920"/>
            <a:ext cx="1542960" cy="1236600"/>
            <a:chOff x="8217000" y="4687920"/>
            <a:chExt cx="1542960" cy="1236600"/>
          </a:xfrm>
        </p:grpSpPr>
        <p:pic>
          <p:nvPicPr>
            <p:cNvPr id="405" name="Овал 3" descr=""/>
            <p:cNvPicPr/>
            <p:nvPr/>
          </p:nvPicPr>
          <p:blipFill>
            <a:blip r:embed="rId21"/>
            <a:stretch/>
          </p:blipFill>
          <p:spPr>
            <a:xfrm>
              <a:off x="8217000" y="4687920"/>
              <a:ext cx="154296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 rot="19932000">
              <a:off x="8503920" y="5076360"/>
              <a:ext cx="968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8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TextBox 20"/>
          <p:cNvSpPr/>
          <p:nvPr/>
        </p:nvSpPr>
        <p:spPr>
          <a:xfrm rot="19665000">
            <a:off x="8778240" y="45385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0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Box 20"/>
          <p:cNvSpPr/>
          <p:nvPr/>
        </p:nvSpPr>
        <p:spPr>
          <a:xfrm rot="19665000">
            <a:off x="8914680" y="55436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Arial"/>
              </a:rPr>
              <a:t>0,0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924F51-07A0-4780-B417-EB704AF755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47400" y="5962680"/>
            <a:ext cx="89154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Рисунок 2" descr=""/>
          <p:cNvPicPr/>
          <p:nvPr/>
        </p:nvPicPr>
        <p:blipFill>
          <a:blip r:embed="rId1"/>
          <a:stretch/>
        </p:blipFill>
        <p:spPr>
          <a:xfrm>
            <a:off x="0" y="-33480"/>
            <a:ext cx="99061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63400" y="1744200"/>
            <a:ext cx="7940520" cy="42037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rmAutofit fontScale="87000"/>
          </a:bodyPr>
          <a:p>
            <a:pPr marL="295560" indent="-2955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оответствии 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ебованиями, установленными Бюджетным кодексом Р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м Совета депутатов города Старая Русса от 29.05.2013 № 187 «Об утверждении Положения о бюджетном процессе в городе Старая Русса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-295560" algn="just">
              <a:spcBef>
                <a:spcPts val="45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ющими в силу с 01.01.2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. изменениями в нормативные правовые акты РФ и области, регулирующие отношения в области налогов и сборов, а также бюджетного законодатель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55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076480" y="457200"/>
            <a:ext cx="5732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0" y="577800"/>
            <a:ext cx="1001880" cy="107172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162" name="Text Box 5"/>
          <p:cNvSpPr/>
          <p:nvPr/>
        </p:nvSpPr>
        <p:spPr>
          <a:xfrm>
            <a:off x="8447040" y="68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C:\Users\SolovevaNV\Desktop\Sbalansirovannyj-byudzhet.jpg"/>
          <p:cNvPicPr/>
          <p:nvPr/>
        </p:nvPicPr>
        <p:blipFill>
          <a:blip r:embed="rId2"/>
          <a:stretch/>
        </p:blipFill>
        <p:spPr>
          <a:xfrm>
            <a:off x="4233960" y="434880"/>
            <a:ext cx="368928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6" descr="C:\Users\SolovevaNV\Desktop\3cc5d14f6c2376a2943635325d91badf.jpg"/>
          <p:cNvPicPr/>
          <p:nvPr/>
        </p:nvPicPr>
        <p:blipFill>
          <a:blip r:embed="rId1"/>
          <a:stretch/>
        </p:blipFill>
        <p:spPr>
          <a:xfrm>
            <a:off x="0" y="731880"/>
            <a:ext cx="9906120" cy="61261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2076480" y="457200"/>
            <a:ext cx="5732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04040" y="0"/>
            <a:ext cx="4627800" cy="6728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f0fd"/>
                </a:solidFill>
                <a:latin typeface="Bookman Old Style"/>
                <a:ea typeface="Arial"/>
              </a:rPr>
              <a:t>Структура доходов  </a:t>
            </a:r>
            <a:r>
              <a:rPr b="1" lang="ru-RU" sz="1400" spc="-1" strike="noStrike">
                <a:solidFill>
                  <a:srgbClr val="e7f0fd"/>
                </a:solidFill>
                <a:latin typeface="Bookman Old Style"/>
                <a:ea typeface="Arial"/>
              </a:rPr>
              <a:t>(млн.руб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0" y="54000"/>
            <a:ext cx="1001880" cy="10713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168" name="Text Box 7"/>
          <p:cNvSpPr/>
          <p:nvPr/>
        </p:nvSpPr>
        <p:spPr>
          <a:xfrm>
            <a:off x="8404200" y="1350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Диаграмма 3"/>
          <p:cNvGraphicFramePr/>
          <p:nvPr/>
        </p:nvGraphicFramePr>
        <p:xfrm>
          <a:off x="509760" y="1531800"/>
          <a:ext cx="9063000" cy="450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760" y="1531800"/>
                    <a:ext cx="90630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076480" y="457200"/>
            <a:ext cx="5732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602960" y="444600"/>
            <a:ext cx="5135400" cy="6728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f0fd"/>
                </a:solidFill>
                <a:latin typeface="Bookman Old Style"/>
                <a:ea typeface="Arial"/>
              </a:rPr>
              <a:t>Собственные доходы    </a:t>
            </a:r>
            <a:r>
              <a:rPr b="1" lang="ru-RU" sz="1400" spc="-1" strike="noStrike">
                <a:solidFill>
                  <a:srgbClr val="e7f0fd"/>
                </a:solidFill>
                <a:latin typeface="Bookman Old Style"/>
                <a:ea typeface="Arial"/>
              </a:rPr>
              <a:t>(млн.руб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680" y="111240"/>
            <a:ext cx="1001880" cy="10713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graphicFrame>
        <p:nvGraphicFramePr>
          <p:cNvPr id="174" name="Диаграмма 2"/>
          <p:cNvGraphicFramePr/>
          <p:nvPr/>
        </p:nvGraphicFramePr>
        <p:xfrm>
          <a:off x="179280" y="1208160"/>
          <a:ext cx="9525240" cy="53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Диаграмма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08160"/>
                    <a:ext cx="9525240" cy="53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8407440" y="13500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Диаграмма 7"/>
          <p:cNvGraphicFramePr/>
          <p:nvPr/>
        </p:nvGraphicFramePr>
        <p:xfrm>
          <a:off x="5386320" y="1260360"/>
          <a:ext cx="2781360" cy="28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6320" y="1260360"/>
                    <a:ext cx="278136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Диаграмма 5"/>
          <p:cNvGraphicFramePr/>
          <p:nvPr/>
        </p:nvGraphicFramePr>
        <p:xfrm>
          <a:off x="312840" y="687240"/>
          <a:ext cx="3597120" cy="343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0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687240"/>
                    <a:ext cx="359712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4"/>
          <p:cNvSpPr/>
          <p:nvPr/>
        </p:nvSpPr>
        <p:spPr>
          <a:xfrm>
            <a:off x="2076480" y="457200"/>
            <a:ext cx="5732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554000" y="444600"/>
            <a:ext cx="4761720" cy="6728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f0fd"/>
                </a:solidFill>
                <a:latin typeface="Bookman Old Style"/>
                <a:ea typeface="Arial"/>
              </a:rPr>
              <a:t>налоговые доходы    </a:t>
            </a:r>
            <a:r>
              <a:rPr b="1" lang="ru-RU" sz="1400" spc="-1" strike="noStrike">
                <a:solidFill>
                  <a:srgbClr val="e7f0fd"/>
                </a:solidFill>
                <a:latin typeface="Bookman Old Style"/>
                <a:ea typeface="Arial"/>
              </a:rPr>
              <a:t>(млн.руб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Овал 10"/>
          <p:cNvSpPr/>
          <p:nvPr/>
        </p:nvSpPr>
        <p:spPr>
          <a:xfrm>
            <a:off x="1760400" y="2206800"/>
            <a:ext cx="941400" cy="51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4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3840" y="4610160"/>
          <a:ext cx="4829040" cy="1984320"/>
        </p:xfrm>
        <a:graphic>
          <a:graphicData uri="http://schemas.openxmlformats.org/drawingml/2006/table">
            <a:tbl>
              <a:tblPr/>
              <a:tblGrid>
                <a:gridCol w="2031840"/>
                <a:gridCol w="990720"/>
                <a:gridCol w="771480"/>
                <a:gridCol w="1035000"/>
              </a:tblGrid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Ф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иму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81000" y="154080"/>
            <a:ext cx="1001520" cy="10713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186" name="Овал 18"/>
          <p:cNvSpPr/>
          <p:nvPr/>
        </p:nvSpPr>
        <p:spPr>
          <a:xfrm>
            <a:off x="6408720" y="2430360"/>
            <a:ext cx="906480" cy="538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8177400" y="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Диаграмма 7"/>
          <p:cNvGraphicFramePr/>
          <p:nvPr/>
        </p:nvGraphicFramePr>
        <p:xfrm>
          <a:off x="5888160" y="3871800"/>
          <a:ext cx="2781000" cy="2697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89" name="Диаграмма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88160" y="3871800"/>
                    <a:ext cx="27810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Овал 6"/>
          <p:cNvSpPr/>
          <p:nvPr/>
        </p:nvSpPr>
        <p:spPr>
          <a:xfrm>
            <a:off x="6942240" y="4998960"/>
            <a:ext cx="866520" cy="469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7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6891480" y="814320"/>
            <a:ext cx="2936880" cy="3202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2076480" y="457200"/>
            <a:ext cx="57322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4560480" y="444600"/>
            <a:ext cx="5142960" cy="6728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f0fd"/>
                </a:solidFill>
                <a:latin typeface="Bookman Old Style"/>
                <a:ea typeface="Arial"/>
              </a:rPr>
              <a:t>неналоговые доходы    </a:t>
            </a:r>
            <a:r>
              <a:rPr b="1" lang="ru-RU" sz="1400" spc="-1" strike="noStrike">
                <a:solidFill>
                  <a:srgbClr val="e7f0fd"/>
                </a:solidFill>
                <a:latin typeface="Bookman Old Style"/>
                <a:ea typeface="Arial"/>
              </a:rPr>
              <a:t>(млн.руб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0" y="111240"/>
            <a:ext cx="1001880" cy="10713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195" name="Text Box 8"/>
          <p:cNvSpPr/>
          <p:nvPr/>
        </p:nvSpPr>
        <p:spPr>
          <a:xfrm>
            <a:off x="8398080" y="586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9"/>
          <p:cNvGraphicFramePr/>
          <p:nvPr/>
        </p:nvGraphicFramePr>
        <p:xfrm>
          <a:off x="-1197000" y="1403280"/>
          <a:ext cx="8045640" cy="522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197000" y="1403280"/>
                    <a:ext cx="804564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Объект 3"/>
          <p:cNvGraphicFramePr/>
          <p:nvPr/>
        </p:nvGraphicFramePr>
        <p:xfrm>
          <a:off x="149400" y="708120"/>
          <a:ext cx="9807480" cy="58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708120"/>
                    <a:ext cx="980748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Box 5"/>
          <p:cNvSpPr/>
          <p:nvPr/>
        </p:nvSpPr>
        <p:spPr>
          <a:xfrm>
            <a:off x="2579760" y="0"/>
            <a:ext cx="56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возмездные посту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(без учета возврата целевых субсидий) млн. руб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1149480" y="128520"/>
            <a:ext cx="1001520" cy="10731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202" name="Text Box 5"/>
          <p:cNvSpPr/>
          <p:nvPr/>
        </p:nvSpPr>
        <p:spPr>
          <a:xfrm>
            <a:off x="8466120" y="777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0" y="82440"/>
            <a:ext cx="1001880" cy="10731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204" name="Text Box 5"/>
          <p:cNvSpPr/>
          <p:nvPr/>
        </p:nvSpPr>
        <p:spPr>
          <a:xfrm>
            <a:off x="8454960" y="11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2546280" y="388800"/>
            <a:ext cx="49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м расходов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лн. рублей)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Диаграмма 8"/>
          <p:cNvGraphicFramePr/>
          <p:nvPr/>
        </p:nvGraphicFramePr>
        <p:xfrm>
          <a:off x="3075120" y="1176480"/>
          <a:ext cx="6881760" cy="499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7" name="Диаграмма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5120" y="1176480"/>
                    <a:ext cx="68817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Овал 9"/>
          <p:cNvSpPr/>
          <p:nvPr/>
        </p:nvSpPr>
        <p:spPr>
          <a:xfrm>
            <a:off x="1881360" y="2930400"/>
            <a:ext cx="1406520" cy="879480"/>
          </a:xfrm>
          <a:prstGeom prst="ellipse">
            <a:avLst/>
          </a:prstGeom>
          <a:gradFill rotWithShape="0">
            <a:gsLst>
              <a:gs pos="0">
                <a:srgbClr val="fafaff"/>
              </a:gs>
              <a:gs pos="100000">
                <a:srgbClr val="e0e0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0"/>
          <p:cNvSpPr/>
          <p:nvPr/>
        </p:nvSpPr>
        <p:spPr>
          <a:xfrm>
            <a:off x="1879560" y="2031840"/>
            <a:ext cx="1406520" cy="879480"/>
          </a:xfrm>
          <a:prstGeom prst="ellipse">
            <a:avLst/>
          </a:prstGeom>
          <a:gradFill rotWithShape="0">
            <a:gsLst>
              <a:gs pos="0">
                <a:srgbClr val="fafaff"/>
              </a:gs>
              <a:gs pos="100000">
                <a:srgbClr val="e0e0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1"/>
          <p:cNvSpPr/>
          <p:nvPr/>
        </p:nvSpPr>
        <p:spPr>
          <a:xfrm>
            <a:off x="1940040" y="3846600"/>
            <a:ext cx="1358640" cy="879480"/>
          </a:xfrm>
          <a:prstGeom prst="ellipse">
            <a:avLst/>
          </a:prstGeom>
          <a:gradFill rotWithShape="0">
            <a:gsLst>
              <a:gs pos="0">
                <a:srgbClr val="fafaff"/>
              </a:gs>
              <a:gs pos="100000">
                <a:srgbClr val="e0e0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1596960" y="2068560"/>
            <a:ext cx="1406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82440"/>
            <a:ext cx="1001880" cy="1073160"/>
          </a:xfrm>
          <a:prstGeom prst="rect">
            <a:avLst/>
          </a:prstGeom>
          <a:ln w="0">
            <a:solidFill>
              <a:srgbClr val="808080"/>
            </a:solidFill>
          </a:ln>
        </p:spPr>
      </p:pic>
      <p:sp>
        <p:nvSpPr>
          <p:cNvPr id="213" name="Text Box 5"/>
          <p:cNvSpPr/>
          <p:nvPr/>
        </p:nvSpPr>
        <p:spPr>
          <a:xfrm>
            <a:off x="8454960" y="11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176480" y="706320"/>
            <a:ext cx="78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Особенности формирования расходной части бюдже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Text Box 7" descr=""/>
          <p:cNvPicPr/>
          <p:nvPr/>
        </p:nvPicPr>
        <p:blipFill>
          <a:blip r:embed="rId2"/>
          <a:stretch/>
        </p:blipFill>
        <p:spPr>
          <a:xfrm>
            <a:off x="817560" y="1835280"/>
            <a:ext cx="839952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Васильева Людмила Ильинична</cp:lastModifiedBy>
  <cp:lastPrinted>2024-11-20T08:54:36Z</cp:lastPrinted>
  <dcterms:modified xsi:type="dcterms:W3CDTF">2024-11-20T11:33:59Z</dcterms:modified>
  <cp:revision>1364</cp:revision>
  <dc:subject/>
  <dc:title>Бюджет для граждан на 2014 год</dc:title>
</cp:coreProperties>
</file>